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4127040"/>
            <a:ext cx="8928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56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2880" y="1267920"/>
            <a:ext cx="4356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4127040"/>
            <a:ext cx="4356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2880" y="4127040"/>
            <a:ext cx="4356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2874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26600" y="1267920"/>
            <a:ext cx="2874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45560" y="1267920"/>
            <a:ext cx="2874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4127040"/>
            <a:ext cx="2874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26600" y="4127040"/>
            <a:ext cx="2874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45560" y="4127040"/>
            <a:ext cx="28746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1267920"/>
            <a:ext cx="89280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56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2880" y="1267920"/>
            <a:ext cx="4356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8000" y="115560"/>
            <a:ext cx="89280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56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2880" y="1267920"/>
            <a:ext cx="4356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4127040"/>
            <a:ext cx="4356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56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2880" y="1267920"/>
            <a:ext cx="4356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2880" y="4127040"/>
            <a:ext cx="4356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56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267920"/>
            <a:ext cx="4356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4127040"/>
            <a:ext cx="892800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1267920"/>
            <a:ext cx="8928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HGS創英角ﾎﾟｯﾌﾟ体"/>
              </a:rPr>
              <a:t>Click to edit the outline text format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HGS創英角ﾎﾟｯﾌﾟ体"/>
              </a:rPr>
              <a:t>Second Outline Level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2" marL="1143000" indent="-228600">
              <a:spcBef>
                <a:spcPts val="1001"/>
              </a:spcBef>
              <a:buClr>
                <a:srgbClr val="ffffff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HGS創英角ﾎﾟｯﾌﾟ体"/>
              </a:rPr>
              <a:t>Third Outline Level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3" marL="1600200" indent="-228600">
              <a:spcBef>
                <a:spcPts val="10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HGS創英角ﾎﾟｯﾌﾟ体"/>
              </a:rPr>
              <a:t>Fourth Outline Level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4" marL="2057400" indent="-228600">
              <a:spcBef>
                <a:spcPts val="1001"/>
              </a:spcBef>
              <a:buClr>
                <a:srgbClr val="ffffff"/>
              </a:buClr>
              <a:buFont typeface="HGS創英角ﾎﾟｯﾌﾟ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HGS創英角ﾎﾟｯﾌﾟ体"/>
              </a:rPr>
              <a:t>Fifth Outline Level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HGS創英角ﾎﾟｯﾌﾟ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HGS創英角ﾎﾟｯﾌﾟ体"/>
              </a:rPr>
              <a:t>Sixth Outline Level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HGS創英角ﾎﾟｯﾌﾟ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HGS創英角ﾎﾟｯﾌﾟ体"/>
              </a:rPr>
              <a:t>Seventh Outline Level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98900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300" spc="-1" strike="noStrike">
                <a:solidFill>
                  <a:srgbClr val="ffffff"/>
                </a:solidFill>
                <a:latin typeface="HGS創英角ﾎﾟｯﾌﾟ体"/>
              </a:rPr>
              <a:t>Introduction to</a:t>
            </a:r>
            <a:br>
              <a:rPr sz="7300"/>
            </a:br>
            <a:r>
              <a:rPr b="0" lang="en-US" sz="7300" spc="-1" strike="noStrike">
                <a:solidFill>
                  <a:srgbClr val="ffffff"/>
                </a:solidFill>
                <a:latin typeface="HGS創英角ﾎﾟｯﾌﾟ体"/>
              </a:rPr>
              <a:t>Tokyo Products</a:t>
            </a:r>
            <a:endParaRPr b="0" lang="en-US" sz="73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39" name=""/>
          <p:cNvSpPr/>
          <p:nvPr/>
        </p:nvSpPr>
        <p:spPr>
          <a:xfrm>
            <a:off x="5727240" y="5653080"/>
            <a:ext cx="316332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  <a:ea typeface="HGS創英角ﾎﾟｯﾌﾟ体"/>
              </a:rPr>
              <a:t>Mikio Hirabayas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HGS創英角ﾎﾟｯﾌﾟ体"/>
                <a:ea typeface="HGS創英角ﾎﾟｯﾌﾟ体"/>
              </a:rPr>
              <a:t>mikio@users.sourceforge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On-memory Structures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TCXSTR: extensible string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concatenation, formatted allocation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TCLIST: array list (dequeue)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random access by index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push/pop, unshift/shift, insert/remove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TCMAP: map of hash table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insert/remove/search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iterator by order of insertion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TCTREE: map of ordered tree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insert/remove/search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iterator by order of comparison function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Other Mechanisms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abstract database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common interface of 6 schema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on-memory hash, on-memory tree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file hash, file B+tree, file array, file table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decides the concrete scheme in runtime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remote database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network interface of the abstract database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yes, it's Tokyo Tyrant!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miscellaneous utilities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string processing, filesystem operation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memory pool, encoding/decoding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Example Code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379" name=""/>
          <p:cNvSpPr/>
          <p:nvPr/>
        </p:nvSpPr>
        <p:spPr>
          <a:xfrm>
            <a:off x="179280" y="1125360"/>
            <a:ext cx="4357800" cy="5400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#include &lt;</a:t>
            </a:r>
            <a:r>
              <a:rPr b="1" lang="ja-JP" sz="900" spc="-1" strike="noStrike">
                <a:solidFill>
                  <a:srgbClr val="ff9999"/>
                </a:solidFill>
                <a:latin typeface="Courier New"/>
              </a:rPr>
              <a:t>tcutil.h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#include &lt;</a:t>
            </a:r>
            <a:r>
              <a:rPr b="1" lang="ja-JP" sz="900" spc="-1" strike="noStrike">
                <a:solidFill>
                  <a:srgbClr val="ff9999"/>
                </a:solidFill>
                <a:latin typeface="Courier New"/>
              </a:rPr>
              <a:t>tchdb.h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#include &lt;stdlib.h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#include &lt;stdbool.h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#include &lt;stdint.h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int main(int argc, char **argv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TCHDB *hdb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int ecod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char *key, *valu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ja-JP" sz="900" spc="-1" strike="noStrike">
                <a:solidFill>
                  <a:srgbClr val="99ccff"/>
                </a:solidFill>
                <a:latin typeface="Courier New"/>
              </a:rPr>
              <a:t>/* create the object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hdb = 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hdbnew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ja-JP" sz="900" spc="-1" strike="noStrike">
                <a:solidFill>
                  <a:srgbClr val="99ccff"/>
                </a:solidFill>
                <a:latin typeface="Courier New"/>
              </a:rPr>
              <a:t>/* open the database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if(!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hdbopen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hdb, "casket.hdb", HDBOWRITER | HDBOCREAT)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ecode = tchdbecode(h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printf(stderr, "open error: %s\n", tchdberrmsg(ecode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ja-JP" sz="900" spc="-1" strike="noStrike">
                <a:solidFill>
                  <a:srgbClr val="99ccff"/>
                </a:solidFill>
                <a:latin typeface="Courier New"/>
              </a:rPr>
              <a:t>/* store records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if(!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hdbput2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hdb, "foo", "hop") |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!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hdbput2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hdb, "bar", "step") |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!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hdbput2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hdb, "baz", "jump")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ecode = tchdbecode(h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printf(stderr, "put error: %s\n", tchdberrmsg(ecode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ja-JP" sz="900" spc="-1" strike="noStrike">
                <a:solidFill>
                  <a:srgbClr val="99ccff"/>
                </a:solidFill>
                <a:latin typeface="Courier New"/>
              </a:rPr>
              <a:t>/* retrieve records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value = 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hdbget2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hdb, "foo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if(value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printf("%s\n", value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ree(value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ecode = tchdbecode(h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printf(stderr, "get error: %s\n", tchdberrmsg(ecode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643280" y="3357720"/>
            <a:ext cx="4357800" cy="3311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ja-JP" sz="900" spc="-1" strike="noStrike">
                <a:solidFill>
                  <a:srgbClr val="99ccff"/>
                </a:solidFill>
                <a:latin typeface="Courier New"/>
              </a:rPr>
              <a:t>/* traverse records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hdbiterinit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h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while((key = tchdbiternext2(hdb)) != NULL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value = 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hdbget2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hdb, key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if(value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printf("%s:%s\n", key, value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ree(value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ree(key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ja-JP" sz="900" spc="-1" strike="noStrike">
                <a:solidFill>
                  <a:srgbClr val="99ccff"/>
                </a:solidFill>
                <a:latin typeface="Courier New"/>
              </a:rPr>
              <a:t>/* close the database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if(!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hdbclose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hdb)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ecode = tchdbecode(h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printf(stderr, "close error: %s\n", tchdberrmsg(ecode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ja-JP" sz="900" spc="-1" strike="noStrike">
                <a:solidFill>
                  <a:srgbClr val="99ccff"/>
                </a:solidFill>
                <a:latin typeface="Courier New"/>
              </a:rPr>
              <a:t>/* delete the object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hdbdel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h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Tokyo Tyrant</a:t>
            </a:r>
            <a:br>
              <a:rPr sz="4900"/>
            </a:br>
            <a:r>
              <a:rPr b="0" lang="en-US" sz="2900" spc="-1" strike="noStrike">
                <a:solidFill>
                  <a:srgbClr val="ffffff"/>
                </a:solidFill>
                <a:latin typeface="HGS創英角ﾎﾟｯﾌﾟ体"/>
              </a:rPr>
              <a:t>- database server -</a:t>
            </a:r>
            <a:endParaRPr b="0" lang="en-US" sz="2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Features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66"/>
                </a:solidFill>
                <a:latin typeface="HGS創英角ﾎﾟｯﾌﾟ体"/>
              </a:rPr>
              <a:t>network server of Tokyo Cabinet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client/server model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multi applications can access one database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effective binary protocol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66"/>
                </a:solidFill>
                <a:latin typeface="HGS創英角ﾎﾟｯﾌﾟ体"/>
              </a:rPr>
              <a:t>compatible protocols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supports memcached protocol and HTTP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available from most popular languages 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66"/>
                </a:solidFill>
                <a:latin typeface="HGS創英角ﾎﾟｯﾌﾟ体"/>
              </a:rPr>
              <a:t>high concurrency/performance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resolves "c10k" with epoll/kqueue/eventports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17.2 sec/1M queries (58,000 qps)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08000" y="188640"/>
            <a:ext cx="8928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high availability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hot backup and update log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asynchronous replication between servers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various database schema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using the abstract database API of Tokyo Cabinet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effective operations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no-reply updating, multi-record retrieval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atomic increment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Lua extension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defines arbitrary database operations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atomic operation by record locking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pure script language interfaces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Perl, Ruby, Java, Python, PHP, Erlang, etc...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4643280" y="1341360"/>
            <a:ext cx="4176720" cy="540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Asynchronous Replication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387" name=""/>
          <p:cNvSpPr/>
          <p:nvPr/>
        </p:nvSpPr>
        <p:spPr>
          <a:xfrm>
            <a:off x="250920" y="1341360"/>
            <a:ext cx="4176720" cy="540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76240" y="2581200"/>
            <a:ext cx="1524240" cy="1752840"/>
          </a:xfrm>
          <a:custGeom>
            <a:avLst/>
            <a:gdLst>
              <a:gd name="textAreaLeft" fmla="*/ 74160 w 1524240"/>
              <a:gd name="textAreaRight" fmla="*/ 1450080 w 1524240"/>
              <a:gd name="textAreaTop" fmla="*/ 74160 h 1752840"/>
              <a:gd name="textAreaBottom" fmla="*/ 1678680 h 1752840"/>
            </a:gdLst>
            <a:ahLst/>
            <a:rect l="textAreaLeft" t="textAreaTop" r="textAreaRight" b="textAreaBottom"/>
            <a:pathLst>
              <a:path w="21600" h="24839">
                <a:moveTo>
                  <a:pt x="3600" y="0"/>
                </a:moveTo>
                <a:arcTo wR="3600" hR="3600" stAng="16200000" swAng="-5400000"/>
                <a:lnTo>
                  <a:pt x="0" y="21239"/>
                </a:lnTo>
                <a:arcTo wR="3600" hR="3600" stAng="10800000" swAng="-5400000"/>
                <a:lnTo>
                  <a:pt x="18000" y="248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73000" y="2581200"/>
            <a:ext cx="12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ter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219320" y="2962440"/>
            <a:ext cx="914400" cy="5331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33440" y="3724200"/>
            <a:ext cx="838440" cy="533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257480" y="3648240"/>
            <a:ext cx="838080" cy="53316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3" name=""/>
          <p:cNvCxnSpPr>
            <a:stCxn id="390" idx="3"/>
            <a:endCxn id="392" idx="0"/>
          </p:cNvCxnSpPr>
          <p:nvPr/>
        </p:nvCxnSpPr>
        <p:spPr>
          <a:xfrm flipV="1" rot="10800000">
            <a:off x="1675800" y="3495240"/>
            <a:ext cx="1080" cy="153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4" name=""/>
          <p:cNvSpPr/>
          <p:nvPr/>
        </p:nvSpPr>
        <p:spPr>
          <a:xfrm>
            <a:off x="419040" y="4867200"/>
            <a:ext cx="1524240" cy="1752840"/>
          </a:xfrm>
          <a:custGeom>
            <a:avLst/>
            <a:gdLst>
              <a:gd name="textAreaLeft" fmla="*/ 74160 w 1524240"/>
              <a:gd name="textAreaRight" fmla="*/ 1450080 w 1524240"/>
              <a:gd name="textAreaTop" fmla="*/ 74160 h 1752840"/>
              <a:gd name="textAreaBottom" fmla="*/ 1678680 h 1752840"/>
            </a:gdLst>
            <a:ahLst/>
            <a:rect l="textAreaLeft" t="textAreaTop" r="textAreaRight" b="textAreaBottom"/>
            <a:pathLst>
              <a:path w="21600" h="24839">
                <a:moveTo>
                  <a:pt x="3600" y="0"/>
                </a:moveTo>
                <a:arcTo wR="3600" hR="3600" stAng="16200000" swAng="-5400000"/>
                <a:lnTo>
                  <a:pt x="0" y="21239"/>
                </a:lnTo>
                <a:arcTo wR="3600" hR="3600" stAng="10800000" swAng="-5400000"/>
                <a:lnTo>
                  <a:pt x="18000" y="248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16160" y="4867200"/>
            <a:ext cx="114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av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62120" y="5248440"/>
            <a:ext cx="914400" cy="5331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76240" y="6010200"/>
            <a:ext cx="838440" cy="533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0280" y="5934240"/>
            <a:ext cx="838080" cy="53316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6" idx="3"/>
            <a:endCxn id="398" idx="0"/>
          </p:cNvCxnSpPr>
          <p:nvPr/>
        </p:nvCxnSpPr>
        <p:spPr>
          <a:xfrm flipV="1" rot="10800000">
            <a:off x="1218600" y="5781240"/>
            <a:ext cx="1080" cy="153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339480" y="4334040"/>
            <a:ext cx="1264320" cy="52020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lic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if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203640" y="24922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2" name=""/>
          <p:cNvCxnSpPr>
            <a:stCxn id="401" idx="2"/>
            <a:endCxn id="388" idx="0"/>
          </p:cNvCxnSpPr>
          <p:nvPr/>
        </p:nvCxnSpPr>
        <p:spPr>
          <a:xfrm flipV="1" rot="16200000">
            <a:off x="2503440" y="1715760"/>
            <a:ext cx="293040" cy="2022840"/>
          </a:xfrm>
          <a:prstGeom prst="curvedConnector5">
            <a:avLst>
              <a:gd name="adj1" fmla="val -78228"/>
              <a:gd name="adj2" fmla="val 21217"/>
              <a:gd name="adj3" fmla="val -782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3" name=""/>
          <p:cNvSpPr/>
          <p:nvPr/>
        </p:nvSpPr>
        <p:spPr>
          <a:xfrm>
            <a:off x="2338560" y="2131920"/>
            <a:ext cx="1054080" cy="3070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171880" y="4867200"/>
            <a:ext cx="1523880" cy="175284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1752840"/>
              <a:gd name="textAreaBottom" fmla="*/ 1678680 h 1752840"/>
            </a:gdLst>
            <a:ahLst/>
            <a:rect l="textAreaLeft" t="textAreaTop" r="textAreaRight" b="textAreaBottom"/>
            <a:pathLst>
              <a:path w="21600" h="24845">
                <a:moveTo>
                  <a:pt x="3600" y="0"/>
                </a:moveTo>
                <a:arcTo wR="3600" hR="3600" stAng="16200000" swAng="-5400000"/>
                <a:lnTo>
                  <a:pt x="0" y="21245"/>
                </a:lnTo>
                <a:arcTo wR="3600" hR="3600" stAng="10800000" swAng="-5400000"/>
                <a:lnTo>
                  <a:pt x="18000" y="24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69000" y="4867200"/>
            <a:ext cx="114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av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514600" y="5248440"/>
            <a:ext cx="914400" cy="5331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629080" y="6010200"/>
            <a:ext cx="838080" cy="533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552760" y="5934240"/>
            <a:ext cx="838080" cy="53316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9" name=""/>
          <p:cNvCxnSpPr>
            <a:stCxn id="406" idx="3"/>
            <a:endCxn id="408" idx="0"/>
          </p:cNvCxnSpPr>
          <p:nvPr/>
        </p:nvCxnSpPr>
        <p:spPr>
          <a:xfrm flipV="1" rot="10800000">
            <a:off x="2971080" y="5781240"/>
            <a:ext cx="1080" cy="153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0" name=""/>
          <p:cNvCxnSpPr>
            <a:stCxn id="392" idx="2"/>
            <a:endCxn id="396" idx="1"/>
          </p:cNvCxnSpPr>
          <p:nvPr/>
        </p:nvCxnSpPr>
        <p:spPr>
          <a:xfrm rot="5400000">
            <a:off x="913680" y="4486320"/>
            <a:ext cx="1067760" cy="457920"/>
          </a:xfrm>
          <a:prstGeom prst="curvedConnector5">
            <a:avLst>
              <a:gd name="adj1" fmla="val 49983"/>
              <a:gd name="adj2" fmla="val 49960"/>
              <a:gd name="adj3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1" name=""/>
          <p:cNvCxnSpPr>
            <a:stCxn id="392" idx="2"/>
            <a:endCxn id="406" idx="1"/>
          </p:cNvCxnSpPr>
          <p:nvPr/>
        </p:nvCxnSpPr>
        <p:spPr>
          <a:xfrm flipH="1" rot="16200000">
            <a:off x="1790640" y="4066920"/>
            <a:ext cx="1067760" cy="1296000"/>
          </a:xfrm>
          <a:prstGeom prst="curvedConnector5">
            <a:avLst>
              <a:gd name="adj1" fmla="val 49983"/>
              <a:gd name="adj2" fmla="val 49986"/>
              <a:gd name="adj3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2" name=""/>
          <p:cNvCxnSpPr>
            <a:stCxn id="401" idx="2"/>
            <a:endCxn id="394" idx="3"/>
          </p:cNvCxnSpPr>
          <p:nvPr/>
        </p:nvCxnSpPr>
        <p:spPr>
          <a:xfrm rot="5400000">
            <a:off x="1366200" y="3449520"/>
            <a:ext cx="2870640" cy="1718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401" idx="2"/>
            <a:endCxn id="404" idx="3"/>
          </p:cNvCxnSpPr>
          <p:nvPr/>
        </p:nvCxnSpPr>
        <p:spPr>
          <a:xfrm flipH="1" rot="16200000">
            <a:off x="2242440" y="4290840"/>
            <a:ext cx="2870640" cy="35640"/>
          </a:xfrm>
          <a:prstGeom prst="curvedConnector5">
            <a:avLst>
              <a:gd name="adj1" fmla="val 34729"/>
              <a:gd name="adj2" fmla="val 376530"/>
              <a:gd name="adj3" fmla="val 347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4" name=""/>
          <p:cNvSpPr/>
          <p:nvPr/>
        </p:nvSpPr>
        <p:spPr>
          <a:xfrm>
            <a:off x="2552760" y="3571920"/>
            <a:ext cx="1698480" cy="52020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load balan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770360" y="3695760"/>
            <a:ext cx="1524240" cy="1752480"/>
          </a:xfrm>
          <a:custGeom>
            <a:avLst/>
            <a:gdLst>
              <a:gd name="textAreaLeft" fmla="*/ 74160 w 1524240"/>
              <a:gd name="textAreaRight" fmla="*/ 1450080 w 1524240"/>
              <a:gd name="textAreaTop" fmla="*/ 74160 h 1752480"/>
              <a:gd name="textAreaBottom" fmla="*/ 1678320 h 1752480"/>
            </a:gdLst>
            <a:ahLst/>
            <a:rect l="textAreaLeft" t="textAreaTop" r="textAreaRight" b="textAreaBottom"/>
            <a:pathLst>
              <a:path w="21600" h="24834">
                <a:moveTo>
                  <a:pt x="3600" y="0"/>
                </a:moveTo>
                <a:arcTo wR="3600" hR="3600" stAng="16200000" swAng="-5400000"/>
                <a:lnTo>
                  <a:pt x="0" y="21234"/>
                </a:lnTo>
                <a:arcTo wR="3600" hR="3600" stAng="10800000" swAng="-5400000"/>
                <a:lnTo>
                  <a:pt x="18000" y="24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767480" y="369576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ve 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113440" y="4076640"/>
            <a:ext cx="914400" cy="53352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227560" y="4838760"/>
            <a:ext cx="838440" cy="533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151600" y="4762440"/>
            <a:ext cx="838080" cy="533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0" name=""/>
          <p:cNvCxnSpPr>
            <a:stCxn id="417" idx="3"/>
            <a:endCxn id="419" idx="0"/>
          </p:cNvCxnSpPr>
          <p:nvPr/>
        </p:nvCxnSpPr>
        <p:spPr>
          <a:xfrm flipV="1" rot="10800000">
            <a:off x="5569920" y="4609800"/>
            <a:ext cx="1080" cy="153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7066080" y="3675240"/>
            <a:ext cx="1523880" cy="175248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1752480"/>
              <a:gd name="textAreaBottom" fmla="*/ 1678320 h 1752480"/>
            </a:gdLst>
            <a:ahLst/>
            <a:rect l="textAreaLeft" t="textAreaTop" r="textAreaRight" b="textAreaBottom"/>
            <a:pathLst>
              <a:path w="21600" h="24839">
                <a:moveTo>
                  <a:pt x="3600" y="0"/>
                </a:moveTo>
                <a:arcTo wR="3600" hR="3600" stAng="16200000" swAng="-5400000"/>
                <a:lnTo>
                  <a:pt x="0" y="21239"/>
                </a:lnTo>
                <a:arcTo wR="3600" hR="3600" stAng="10800000" swAng="-5400000"/>
                <a:lnTo>
                  <a:pt x="18000" y="248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062480" y="36752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by 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408800" y="4056120"/>
            <a:ext cx="914400" cy="53352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523280" y="4818240"/>
            <a:ext cx="838080" cy="53316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446960" y="4741920"/>
            <a:ext cx="838080" cy="533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"/>
          <p:cNvCxnSpPr>
            <a:stCxn id="423" idx="3"/>
            <a:endCxn id="425" idx="0"/>
          </p:cNvCxnSpPr>
          <p:nvPr/>
        </p:nvCxnSpPr>
        <p:spPr>
          <a:xfrm flipV="1" rot="10800000">
            <a:off x="7865280" y="4589280"/>
            <a:ext cx="1080" cy="153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7" name=""/>
          <p:cNvCxnSpPr>
            <a:stCxn id="419" idx="3"/>
            <a:endCxn id="423" idx="2"/>
          </p:cNvCxnSpPr>
          <p:nvPr/>
        </p:nvCxnSpPr>
        <p:spPr>
          <a:xfrm flipV="1">
            <a:off x="5989680" y="4322520"/>
            <a:ext cx="1419840" cy="707040"/>
          </a:xfrm>
          <a:prstGeom prst="curvedConnector5">
            <a:avLst>
              <a:gd name="adj1" fmla="val 49987"/>
              <a:gd name="adj2" fmla="val 49974"/>
              <a:gd name="adj3" fmla="val 499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8" name=""/>
          <p:cNvSpPr/>
          <p:nvPr/>
        </p:nvSpPr>
        <p:spPr>
          <a:xfrm>
            <a:off x="6081480" y="5084640"/>
            <a:ext cx="1264320" cy="52020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lic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if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075280" y="278136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0" name=""/>
          <p:cNvCxnSpPr>
            <a:stCxn id="429" idx="2"/>
            <a:endCxn id="415" idx="0"/>
          </p:cNvCxnSpPr>
          <p:nvPr/>
        </p:nvCxnSpPr>
        <p:spPr>
          <a:xfrm flipV="1" rot="10800000">
            <a:off x="5531760" y="3161880"/>
            <a:ext cx="108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1" name=""/>
          <p:cNvSpPr/>
          <p:nvPr/>
        </p:nvSpPr>
        <p:spPr>
          <a:xfrm>
            <a:off x="4770360" y="323856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2" name=""/>
          <p:cNvCxnSpPr>
            <a:stCxn id="425" idx="1"/>
            <a:endCxn id="417" idx="4"/>
          </p:cNvCxnSpPr>
          <p:nvPr/>
        </p:nvCxnSpPr>
        <p:spPr>
          <a:xfrm rot="10800000">
            <a:off x="6027120" y="4343400"/>
            <a:ext cx="1419840" cy="66564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9" idx="2"/>
            <a:endCxn id="421" idx="0"/>
          </p:cNvCxnSpPr>
          <p:nvPr/>
        </p:nvCxnSpPr>
        <p:spPr>
          <a:xfrm flipH="1" rot="16200000">
            <a:off x="6423480" y="2270520"/>
            <a:ext cx="513720" cy="2296080"/>
          </a:xfrm>
          <a:prstGeom prst="curvedConnector5">
            <a:avLst>
              <a:gd name="adj1" fmla="val 49789"/>
              <a:gd name="adj2" fmla="val 49992"/>
              <a:gd name="adj3" fmla="val 49789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6297120" y="3068640"/>
            <a:ext cx="1983600" cy="2764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ry if the master is d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69800" y="134136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ter and sl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load balanc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861440" y="1341360"/>
            <a:ext cx="14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al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fail o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684360" y="1341360"/>
            <a:ext cx="7920000" cy="518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Thread Pool Model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439" name=""/>
          <p:cNvSpPr/>
          <p:nvPr/>
        </p:nvSpPr>
        <p:spPr>
          <a:xfrm>
            <a:off x="2914560" y="1541520"/>
            <a:ext cx="1752840" cy="23623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362320"/>
              <a:gd name="textAreaBottom" fmla="*/ 2277000 h 2362320"/>
            </a:gdLst>
            <a:ahLst/>
            <a:rect l="textAreaLeft" t="textAreaTop" r="textAreaRight" b="textAreaBottom"/>
            <a:pathLst>
              <a:path w="21600" h="29109">
                <a:moveTo>
                  <a:pt x="3600" y="0"/>
                </a:moveTo>
                <a:arcTo wR="3600" hR="3600" stAng="16200000" swAng="-5400000"/>
                <a:lnTo>
                  <a:pt x="0" y="25509"/>
                </a:lnTo>
                <a:arcTo wR="3600" hR="3600" stAng="10800000" swAng="-5400000"/>
                <a:lnTo>
                  <a:pt x="18000" y="291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130200" y="1628640"/>
            <a:ext cx="126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epoll/k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057560" y="2227320"/>
            <a:ext cx="3812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057560" y="2379600"/>
            <a:ext cx="381240" cy="152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057560" y="2532240"/>
            <a:ext cx="3812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057560" y="2684520"/>
            <a:ext cx="3812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057560" y="2836800"/>
            <a:ext cx="381240" cy="152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057560" y="2989440"/>
            <a:ext cx="3812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057560" y="3141720"/>
            <a:ext cx="3812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057560" y="3294000"/>
            <a:ext cx="381240" cy="152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905280" y="192240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762280" y="2303640"/>
            <a:ext cx="1219320" cy="304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poll_ctl(ad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762280" y="2989440"/>
            <a:ext cx="914400" cy="304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poll_wa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861080" y="155736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390680" y="2303640"/>
            <a:ext cx="914400" cy="304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4" name=""/>
          <p:cNvCxnSpPr>
            <a:stCxn id="452" idx="2"/>
            <a:endCxn id="450" idx="3"/>
          </p:cNvCxnSpPr>
          <p:nvPr/>
        </p:nvCxnSpPr>
        <p:spPr>
          <a:xfrm rot="5400000">
            <a:off x="4352400" y="1490400"/>
            <a:ext cx="594360" cy="133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>
            <a:stCxn id="445" idx="1"/>
            <a:endCxn id="451" idx="0"/>
          </p:cNvCxnSpPr>
          <p:nvPr/>
        </p:nvCxnSpPr>
        <p:spPr>
          <a:xfrm flipV="1" rot="10800000">
            <a:off x="3218760" y="2913120"/>
            <a:ext cx="838800" cy="766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51" idx="1"/>
            <a:endCxn id="453" idx="2"/>
          </p:cNvCxnSpPr>
          <p:nvPr/>
        </p:nvCxnSpPr>
        <p:spPr>
          <a:xfrm rot="10800000">
            <a:off x="1847160" y="2607480"/>
            <a:ext cx="91512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53" idx="3"/>
            <a:endCxn id="450" idx="1"/>
          </p:cNvCxnSpPr>
          <p:nvPr/>
        </p:nvCxnSpPr>
        <p:spPr>
          <a:xfrm>
            <a:off x="2305080" y="2455560"/>
            <a:ext cx="45792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8" name=""/>
          <p:cNvSpPr/>
          <p:nvPr/>
        </p:nvSpPr>
        <p:spPr>
          <a:xfrm>
            <a:off x="4896000" y="3370320"/>
            <a:ext cx="1523880" cy="198108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1981080"/>
              <a:gd name="textAreaBottom" fmla="*/ 1906920 h 1981080"/>
            </a:gdLst>
            <a:ahLst/>
            <a:rect l="textAreaLeft" t="textAreaTop" r="textAreaRight" b="textAreaBottom"/>
            <a:pathLst>
              <a:path w="21600" h="28079">
                <a:moveTo>
                  <a:pt x="3600" y="0"/>
                </a:moveTo>
                <a:arcTo wR="3600" hR="3600" stAng="16200000" swAng="-5400000"/>
                <a:lnTo>
                  <a:pt x="0" y="24479"/>
                </a:lnTo>
                <a:arcTo wR="3600" hR="3600" stAng="10800000" swAng="-5400000"/>
                <a:lnTo>
                  <a:pt x="18000" y="280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002560" y="3429000"/>
            <a:ext cx="13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sk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810400" y="4056120"/>
            <a:ext cx="38088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810400" y="4208400"/>
            <a:ext cx="380880" cy="152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810400" y="4361040"/>
            <a:ext cx="38088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810400" y="4513320"/>
            <a:ext cx="38088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810400" y="4665600"/>
            <a:ext cx="380880" cy="152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810400" y="4818240"/>
            <a:ext cx="38088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810400" y="4970520"/>
            <a:ext cx="38088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810400" y="5122800"/>
            <a:ext cx="380880" cy="152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657760" y="375120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743360" y="39798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n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743360" y="48942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e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64" idx="1"/>
            <a:endCxn id="470" idx="0"/>
          </p:cNvCxnSpPr>
          <p:nvPr/>
        </p:nvCxnSpPr>
        <p:spPr>
          <a:xfrm flipV="1" rot="10800000">
            <a:off x="5199840" y="4740840"/>
            <a:ext cx="610560" cy="153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2" name=""/>
          <p:cNvCxnSpPr>
            <a:stCxn id="469" idx="2"/>
            <a:endCxn id="463" idx="1"/>
          </p:cNvCxnSpPr>
          <p:nvPr/>
        </p:nvCxnSpPr>
        <p:spPr>
          <a:xfrm flipH="1" rot="16200000">
            <a:off x="5352840" y="4131720"/>
            <a:ext cx="30564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3" name=""/>
          <p:cNvSpPr/>
          <p:nvPr/>
        </p:nvSpPr>
        <p:spPr>
          <a:xfrm>
            <a:off x="6659640" y="5157720"/>
            <a:ext cx="1523880" cy="3812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er 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659640" y="5614920"/>
            <a:ext cx="1523880" cy="3812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er 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659640" y="6072120"/>
            <a:ext cx="1523880" cy="3812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er 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6" name=""/>
          <p:cNvCxnSpPr>
            <a:stCxn id="470" idx="2"/>
            <a:endCxn id="473" idx="1"/>
          </p:cNvCxnSpPr>
          <p:nvPr/>
        </p:nvCxnSpPr>
        <p:spPr>
          <a:xfrm flipH="1" rot="16200000">
            <a:off x="5854680" y="4543920"/>
            <a:ext cx="149760" cy="1459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7" name=""/>
          <p:cNvCxnSpPr>
            <a:stCxn id="470" idx="2"/>
            <a:endCxn id="474" idx="1"/>
          </p:cNvCxnSpPr>
          <p:nvPr/>
        </p:nvCxnSpPr>
        <p:spPr>
          <a:xfrm flipH="1" rot="16200000">
            <a:off x="5626080" y="4772520"/>
            <a:ext cx="606960" cy="1459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8" name=""/>
          <p:cNvCxnSpPr>
            <a:stCxn id="470" idx="2"/>
            <a:endCxn id="475" idx="1"/>
          </p:cNvCxnSpPr>
          <p:nvPr/>
        </p:nvCxnSpPr>
        <p:spPr>
          <a:xfrm flipH="1" rot="16200000">
            <a:off x="5397480" y="5001120"/>
            <a:ext cx="1064160" cy="1459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9" name=""/>
          <p:cNvCxnSpPr>
            <a:stCxn id="473" idx="3"/>
            <a:endCxn id="450" idx="3"/>
          </p:cNvCxnSpPr>
          <p:nvPr/>
        </p:nvCxnSpPr>
        <p:spPr>
          <a:xfrm flipH="1" flipV="1">
            <a:off x="3981240" y="2455560"/>
            <a:ext cx="4202640" cy="2892960"/>
          </a:xfrm>
          <a:prstGeom prst="curvedConnector5">
            <a:avLst>
              <a:gd name="adj1" fmla="val -5431"/>
              <a:gd name="adj2" fmla="val 49993"/>
              <a:gd name="adj3" fmla="val -54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0" name=""/>
          <p:cNvCxnSpPr>
            <a:stCxn id="474" idx="3"/>
            <a:endCxn id="450" idx="3"/>
          </p:cNvCxnSpPr>
          <p:nvPr/>
        </p:nvCxnSpPr>
        <p:spPr>
          <a:xfrm flipH="1" flipV="1">
            <a:off x="3981240" y="2455560"/>
            <a:ext cx="4202640" cy="3350160"/>
          </a:xfrm>
          <a:prstGeom prst="curvedConnector5">
            <a:avLst>
              <a:gd name="adj1" fmla="val -5431"/>
              <a:gd name="adj2" fmla="val 49994"/>
              <a:gd name="adj3" fmla="val -54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1" name=""/>
          <p:cNvCxnSpPr>
            <a:stCxn id="475" idx="3"/>
            <a:endCxn id="450" idx="3"/>
          </p:cNvCxnSpPr>
          <p:nvPr/>
        </p:nvCxnSpPr>
        <p:spPr>
          <a:xfrm flipH="1" flipV="1">
            <a:off x="3981240" y="2455560"/>
            <a:ext cx="4202640" cy="3807360"/>
          </a:xfrm>
          <a:prstGeom prst="curvedConnector5">
            <a:avLst>
              <a:gd name="adj1" fmla="val -5431"/>
              <a:gd name="adj2" fmla="val 49995"/>
              <a:gd name="adj3" fmla="val -54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2" name=""/>
          <p:cNvSpPr/>
          <p:nvPr/>
        </p:nvSpPr>
        <p:spPr>
          <a:xfrm>
            <a:off x="6294240" y="2637000"/>
            <a:ext cx="2108520" cy="3070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 back if keep-al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784760" y="6070680"/>
            <a:ext cx="1195560" cy="3070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each 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73560" y="1773360"/>
            <a:ext cx="2658600" cy="52020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pt the client conn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event is about the liste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762280" y="3522600"/>
            <a:ext cx="1219320" cy="304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poll_ctl(d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51" idx="2"/>
            <a:endCxn id="485" idx="0"/>
          </p:cNvCxnSpPr>
          <p:nvPr/>
        </p:nvCxnSpPr>
        <p:spPr>
          <a:xfrm flipH="1" rot="16200000">
            <a:off x="3180240" y="3331800"/>
            <a:ext cx="229320" cy="153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7" name=""/>
          <p:cNvCxnSpPr>
            <a:stCxn id="485" idx="2"/>
            <a:endCxn id="469" idx="1"/>
          </p:cNvCxnSpPr>
          <p:nvPr/>
        </p:nvCxnSpPr>
        <p:spPr>
          <a:xfrm flipH="1" rot="16200000">
            <a:off x="3904920" y="3293640"/>
            <a:ext cx="305640" cy="13723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8" name=""/>
          <p:cNvCxnSpPr>
            <a:stCxn id="450" idx="2"/>
            <a:endCxn id="444" idx="1"/>
          </p:cNvCxnSpPr>
          <p:nvPr/>
        </p:nvCxnSpPr>
        <p:spPr>
          <a:xfrm flipH="1" rot="16200000">
            <a:off x="3637440" y="2341440"/>
            <a:ext cx="153360" cy="686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9" name=""/>
          <p:cNvCxnSpPr>
            <a:stCxn id="448" idx="2"/>
            <a:endCxn id="485" idx="3"/>
          </p:cNvCxnSpPr>
          <p:nvPr/>
        </p:nvCxnSpPr>
        <p:spPr>
          <a:xfrm rot="5400000">
            <a:off x="3999960" y="342756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0" name=""/>
          <p:cNvSpPr/>
          <p:nvPr/>
        </p:nvSpPr>
        <p:spPr>
          <a:xfrm>
            <a:off x="1464120" y="4149720"/>
            <a:ext cx="3231720" cy="52020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ove the readable client 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from the epoll queue to the task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700160" y="1916280"/>
            <a:ext cx="3882600" cy="52020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first of all, the listening socket is enqueued i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he epoll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8000" y="1267920"/>
            <a:ext cx="8928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defines DB operations as Lua functions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clients send the function name and record data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the server returns the return value of the function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options about atomicity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no locking / record locking / global locking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493" name=""/>
          <p:cNvSpPr/>
          <p:nvPr/>
        </p:nvSpPr>
        <p:spPr>
          <a:xfrm>
            <a:off x="468360" y="3645000"/>
            <a:ext cx="8280360" cy="309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900" spc="-1" strike="noStrike">
                <a:solidFill>
                  <a:srgbClr val="ffffff"/>
                </a:solidFill>
                <a:latin typeface="HGS創英角ﾎﾟｯﾌﾟ体"/>
              </a:rPr>
              <a:t>Lua Extention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495" name=""/>
          <p:cNvSpPr/>
          <p:nvPr/>
        </p:nvSpPr>
        <p:spPr>
          <a:xfrm>
            <a:off x="4429080" y="3789360"/>
            <a:ext cx="4191120" cy="278928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42880" y="3789360"/>
            <a:ext cx="2362320" cy="278928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911160" y="5059440"/>
            <a:ext cx="1752840" cy="838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35200" y="4906800"/>
            <a:ext cx="1752480" cy="838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58880" y="4754520"/>
            <a:ext cx="1752480" cy="838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645080" y="4221000"/>
            <a:ext cx="3733920" cy="12193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797360" y="4830840"/>
            <a:ext cx="1676520" cy="4572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yo Cabi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550200" y="4830840"/>
            <a:ext cx="1676160" cy="4572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ua 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799160" y="429732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yo Ty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005440" y="5661000"/>
            <a:ext cx="1181160" cy="84132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943680" y="5734080"/>
            <a:ext cx="1295280" cy="76824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6" name=""/>
          <p:cNvCxnSpPr>
            <a:stCxn id="504" idx="1"/>
            <a:endCxn id="501" idx="2"/>
          </p:cNvCxnSpPr>
          <p:nvPr/>
        </p:nvCxnSpPr>
        <p:spPr>
          <a:xfrm flipH="1" flipV="1" rot="5400000">
            <a:off x="5428800" y="5454000"/>
            <a:ext cx="373680" cy="40680"/>
          </a:xfrm>
          <a:prstGeom prst="curvedConnector5">
            <a:avLst>
              <a:gd name="adj1" fmla="val 49758"/>
              <a:gd name="adj2" fmla="val 50000"/>
              <a:gd name="adj3" fmla="val 49758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07" name=""/>
          <p:cNvCxnSpPr>
            <a:stCxn id="505" idx="0"/>
            <a:endCxn id="502" idx="2"/>
          </p:cNvCxnSpPr>
          <p:nvPr/>
        </p:nvCxnSpPr>
        <p:spPr>
          <a:xfrm flipV="1" rot="16200000">
            <a:off x="7266240" y="5408640"/>
            <a:ext cx="446760" cy="203760"/>
          </a:xfrm>
          <a:prstGeom prst="curvedConnector5">
            <a:avLst>
              <a:gd name="adj1" fmla="val 49758"/>
              <a:gd name="adj2" fmla="val 49911"/>
              <a:gd name="adj3" fmla="val 49758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508" name=""/>
          <p:cNvSpPr/>
          <p:nvPr/>
        </p:nvSpPr>
        <p:spPr>
          <a:xfrm>
            <a:off x="7021440" y="6021360"/>
            <a:ext cx="1168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-defi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82560" y="4602240"/>
            <a:ext cx="1752840" cy="838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61400" y="46782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427640" y="386064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ck 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41080" y="388620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nt 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977920" y="3809880"/>
            <a:ext cx="1411920" cy="100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ction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968560" y="5059440"/>
            <a:ext cx="13716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ult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5" name=""/>
          <p:cNvCxnSpPr/>
          <p:nvPr/>
        </p:nvCxnSpPr>
        <p:spPr>
          <a:xfrm flipV="1">
            <a:off x="2425680" y="4742640"/>
            <a:ext cx="2210400" cy="191160"/>
          </a:xfrm>
          <a:prstGeom prst="curvedConnector5">
            <a:avLst>
              <a:gd name="adj1" fmla="val 49991"/>
              <a:gd name="adj2" fmla="val 50000"/>
              <a:gd name="adj3" fmla="val 49991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16" name=""/>
          <p:cNvCxnSpPr/>
          <p:nvPr/>
        </p:nvCxnSpPr>
        <p:spPr>
          <a:xfrm flipV="1" rot="10800000">
            <a:off x="2434680" y="4906440"/>
            <a:ext cx="2210400" cy="191520"/>
          </a:xfrm>
          <a:prstGeom prst="curvedConnector5">
            <a:avLst>
              <a:gd name="adj1" fmla="val 49991"/>
              <a:gd name="adj2" fmla="val 49905"/>
              <a:gd name="adj3" fmla="val 49991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4572000" y="1413000"/>
            <a:ext cx="4392720" cy="525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900" spc="-1" strike="noStrike">
                <a:solidFill>
                  <a:srgbClr val="ffffff"/>
                </a:solidFill>
                <a:latin typeface="HGS創英角ﾎﾟｯﾌﾟ体"/>
              </a:rPr>
              <a:t>case: Timestamp DB at mixi.jp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876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20 million records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each record size is 20 bytes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more than 10,000 updates per sec.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keeps 10,000 connections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dual master replication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each server is only one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memcached compatible protocol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reuses existing Perl clients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520" name=""/>
          <p:cNvSpPr/>
          <p:nvPr/>
        </p:nvSpPr>
        <p:spPr>
          <a:xfrm>
            <a:off x="5019840" y="1844640"/>
            <a:ext cx="2057400" cy="474984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4749840"/>
              <a:gd name="textAreaBottom" fmla="*/ 4649400 h 4749840"/>
            </a:gdLst>
            <a:ahLst/>
            <a:rect l="textAreaLeft" t="textAreaTop" r="textAreaRight" b="textAreaBottom"/>
            <a:pathLst>
              <a:path w="21600" h="49862">
                <a:moveTo>
                  <a:pt x="3600" y="0"/>
                </a:moveTo>
                <a:arcTo wR="3600" hR="3600" stAng="16200000" swAng="-5400000"/>
                <a:lnTo>
                  <a:pt x="0" y="46262"/>
                </a:lnTo>
                <a:arcTo wR="3600" hR="3600" stAng="10800000" swAng="-5400000"/>
                <a:lnTo>
                  <a:pt x="18000" y="498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867200" y="1700280"/>
            <a:ext cx="2057400" cy="47419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4741920"/>
              <a:gd name="textAreaBottom" fmla="*/ 4641480 h 4741920"/>
            </a:gdLst>
            <a:ahLst/>
            <a:rect l="textAreaLeft" t="textAreaTop" r="textAreaRight" b="textAreaBottom"/>
            <a:pathLst>
              <a:path w="21600" h="49779">
                <a:moveTo>
                  <a:pt x="3600" y="0"/>
                </a:moveTo>
                <a:arcTo wR="3600" hR="3600" stAng="16200000" swAng="-5400000"/>
                <a:lnTo>
                  <a:pt x="0" y="46179"/>
                </a:lnTo>
                <a:arcTo wR="3600" hR="3600" stAng="10800000" swAng="-5400000"/>
                <a:lnTo>
                  <a:pt x="18000" y="497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714920" y="1555920"/>
            <a:ext cx="2057400" cy="473364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4733640"/>
              <a:gd name="textAreaBottom" fmla="*/ 4633200 h 4733640"/>
            </a:gdLst>
            <a:ahLst/>
            <a:rect l="textAreaLeft" t="textAreaTop" r="textAreaRight" b="textAreaBottom"/>
            <a:pathLst>
              <a:path w="21600" h="49692">
                <a:moveTo>
                  <a:pt x="3600" y="0"/>
                </a:moveTo>
                <a:arcTo wR="3600" hR="3600" stAng="16200000" swAng="-5400000"/>
                <a:lnTo>
                  <a:pt x="0" y="46092"/>
                </a:lnTo>
                <a:arcTo wR="3600" hR="3600" stAng="10800000" swAng="-5400000"/>
                <a:lnTo>
                  <a:pt x="18000" y="496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00720" y="4156200"/>
            <a:ext cx="1219320" cy="6858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324400" y="4079880"/>
            <a:ext cx="1219320" cy="6858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248440" y="4003560"/>
            <a:ext cx="1218960" cy="6858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172120" y="3927600"/>
            <a:ext cx="1219320" cy="6858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her p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095800" y="3470400"/>
            <a:ext cx="1219320" cy="6858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search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019840" y="2936880"/>
            <a:ext cx="1218960" cy="6858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view_diary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943520" y="2479680"/>
            <a:ext cx="1219320" cy="6858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show_friend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867200" y="2022480"/>
            <a:ext cx="1219320" cy="6858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home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019840" y="5451480"/>
            <a:ext cx="1218960" cy="6858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list_bookmark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867200" y="4994280"/>
            <a:ext cx="1219320" cy="68580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list_friend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788000" y="162864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mod_pe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380360" y="2205000"/>
            <a:ext cx="1295280" cy="1224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449840" y="2276640"/>
            <a:ext cx="10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T (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532640" y="2670120"/>
            <a:ext cx="1000080" cy="61452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7" name=""/>
          <p:cNvCxnSpPr>
            <a:stCxn id="530" idx="3"/>
            <a:endCxn id="534" idx="1"/>
          </p:cNvCxnSpPr>
          <p:nvPr/>
        </p:nvCxnSpPr>
        <p:spPr>
          <a:xfrm>
            <a:off x="6086520" y="2364840"/>
            <a:ext cx="1294560" cy="453240"/>
          </a:xfrm>
          <a:prstGeom prst="curvedConnector5">
            <a:avLst>
              <a:gd name="adj1" fmla="val 49930"/>
              <a:gd name="adj2" fmla="val 50000"/>
              <a:gd name="adj3" fmla="val 4993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8" name=""/>
          <p:cNvCxnSpPr>
            <a:stCxn id="529" idx="3"/>
            <a:endCxn id="534" idx="1"/>
          </p:cNvCxnSpPr>
          <p:nvPr/>
        </p:nvCxnSpPr>
        <p:spPr>
          <a:xfrm flipV="1">
            <a:off x="6162840" y="2817000"/>
            <a:ext cx="1218240" cy="5400"/>
          </a:xfrm>
          <a:prstGeom prst="curvedConnector5">
            <a:avLst>
              <a:gd name="adj1" fmla="val 49926"/>
              <a:gd name="adj2" fmla="val 50000"/>
              <a:gd name="adj3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9" name=""/>
          <p:cNvCxnSpPr>
            <a:stCxn id="528" idx="3"/>
            <a:endCxn id="534" idx="1"/>
          </p:cNvCxnSpPr>
          <p:nvPr/>
        </p:nvCxnSpPr>
        <p:spPr>
          <a:xfrm flipV="1">
            <a:off x="6238440" y="2817000"/>
            <a:ext cx="1142280" cy="462600"/>
          </a:xfrm>
          <a:prstGeom prst="curvedConnector5">
            <a:avLst>
              <a:gd name="adj1" fmla="val 49905"/>
              <a:gd name="adj2" fmla="val 50000"/>
              <a:gd name="adj3" fmla="val 4990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7" idx="3"/>
            <a:endCxn id="534" idx="1"/>
          </p:cNvCxnSpPr>
          <p:nvPr/>
        </p:nvCxnSpPr>
        <p:spPr>
          <a:xfrm flipV="1">
            <a:off x="6314760" y="2817000"/>
            <a:ext cx="1065960" cy="996120"/>
          </a:xfrm>
          <a:prstGeom prst="curvedConnector5">
            <a:avLst>
              <a:gd name="adj1" fmla="val 49898"/>
              <a:gd name="adj2" fmla="val 50000"/>
              <a:gd name="adj3" fmla="val 498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26" idx="3"/>
            <a:endCxn id="534" idx="1"/>
          </p:cNvCxnSpPr>
          <p:nvPr/>
        </p:nvCxnSpPr>
        <p:spPr>
          <a:xfrm flipV="1">
            <a:off x="6391080" y="2817000"/>
            <a:ext cx="989280" cy="1453320"/>
          </a:xfrm>
          <a:prstGeom prst="curvedConnector5">
            <a:avLst>
              <a:gd name="adj1" fmla="val 49908"/>
              <a:gd name="adj2" fmla="val 50000"/>
              <a:gd name="adj3" fmla="val 4990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2" name=""/>
          <p:cNvSpPr/>
          <p:nvPr/>
        </p:nvSpPr>
        <p:spPr>
          <a:xfrm>
            <a:off x="6374880" y="2131920"/>
            <a:ext cx="877320" cy="3682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61080" y="5084640"/>
            <a:ext cx="676080" cy="3682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4" name=""/>
          <p:cNvCxnSpPr>
            <a:stCxn id="525" idx="3"/>
            <a:endCxn id="534" idx="1"/>
          </p:cNvCxnSpPr>
          <p:nvPr/>
        </p:nvCxnSpPr>
        <p:spPr>
          <a:xfrm flipV="1">
            <a:off x="6467400" y="2817000"/>
            <a:ext cx="913680" cy="1529640"/>
          </a:xfrm>
          <a:prstGeom prst="curvedConnector5">
            <a:avLst>
              <a:gd name="adj1" fmla="val 49901"/>
              <a:gd name="adj2" fmla="val 50000"/>
              <a:gd name="adj3" fmla="val 4990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5" name=""/>
          <p:cNvCxnSpPr>
            <a:stCxn id="524" idx="3"/>
            <a:endCxn id="534" idx="1"/>
          </p:cNvCxnSpPr>
          <p:nvPr/>
        </p:nvCxnSpPr>
        <p:spPr>
          <a:xfrm flipV="1">
            <a:off x="6543720" y="2817360"/>
            <a:ext cx="837360" cy="1605600"/>
          </a:xfrm>
          <a:prstGeom prst="curvedConnector5">
            <a:avLst>
              <a:gd name="adj1" fmla="val 49892"/>
              <a:gd name="adj2" fmla="val 49988"/>
              <a:gd name="adj3" fmla="val 4989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6" name=""/>
          <p:cNvCxnSpPr>
            <a:stCxn id="523" idx="3"/>
            <a:endCxn id="534" idx="1"/>
          </p:cNvCxnSpPr>
          <p:nvPr/>
        </p:nvCxnSpPr>
        <p:spPr>
          <a:xfrm flipV="1">
            <a:off x="6620040" y="2817360"/>
            <a:ext cx="761040" cy="1681920"/>
          </a:xfrm>
          <a:prstGeom prst="curvedConnector5">
            <a:avLst>
              <a:gd name="adj1" fmla="val 49881"/>
              <a:gd name="adj2" fmla="val 49989"/>
              <a:gd name="adj3" fmla="val 4988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7" name=""/>
          <p:cNvCxnSpPr>
            <a:stCxn id="532" idx="3"/>
            <a:endCxn id="534" idx="1"/>
          </p:cNvCxnSpPr>
          <p:nvPr/>
        </p:nvCxnSpPr>
        <p:spPr>
          <a:xfrm flipV="1">
            <a:off x="6086520" y="2817360"/>
            <a:ext cx="1294560" cy="2520000"/>
          </a:xfrm>
          <a:prstGeom prst="curvedConnector5">
            <a:avLst>
              <a:gd name="adj1" fmla="val 49930"/>
              <a:gd name="adj2" fmla="val 49992"/>
              <a:gd name="adj3" fmla="val 4993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8" name=""/>
          <p:cNvCxnSpPr>
            <a:stCxn id="531" idx="3"/>
            <a:endCxn id="534" idx="1"/>
          </p:cNvCxnSpPr>
          <p:nvPr/>
        </p:nvCxnSpPr>
        <p:spPr>
          <a:xfrm flipV="1">
            <a:off x="6238440" y="2817360"/>
            <a:ext cx="1142280" cy="2977200"/>
          </a:xfrm>
          <a:prstGeom prst="curvedConnector5">
            <a:avLst>
              <a:gd name="adj1" fmla="val 49905"/>
              <a:gd name="adj2" fmla="val 49993"/>
              <a:gd name="adj3" fmla="val 4990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9" name=""/>
          <p:cNvSpPr/>
          <p:nvPr/>
        </p:nvSpPr>
        <p:spPr>
          <a:xfrm>
            <a:off x="7524720" y="4221000"/>
            <a:ext cx="1295280" cy="1224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594920" y="429264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T (standb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677000" y="4686480"/>
            <a:ext cx="998640" cy="6141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2" name=""/>
          <p:cNvCxnSpPr>
            <a:stCxn id="534" idx="2"/>
            <a:endCxn id="549" idx="0"/>
          </p:cNvCxnSpPr>
          <p:nvPr/>
        </p:nvCxnSpPr>
        <p:spPr>
          <a:xfrm flipH="1" rot="16200000">
            <a:off x="7702920" y="3752640"/>
            <a:ext cx="792720" cy="144720"/>
          </a:xfrm>
          <a:prstGeom prst="curvedConnector5">
            <a:avLst>
              <a:gd name="adj1" fmla="val 49886"/>
              <a:gd name="adj2" fmla="val 49875"/>
              <a:gd name="adj3" fmla="val 4988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53" name=""/>
          <p:cNvSpPr/>
          <p:nvPr/>
        </p:nvSpPr>
        <p:spPr>
          <a:xfrm>
            <a:off x="7527960" y="3645000"/>
            <a:ext cx="1218600" cy="3682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HGS創英角ﾎﾟｯﾌﾟ体"/>
              </a:rPr>
              <a:t>Tokyo Cabinet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GS創英角ﾎﾟｯﾌﾟ体"/>
              </a:rPr>
              <a:t>database library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HGS創英角ﾎﾟｯﾌﾟ体"/>
              </a:rPr>
              <a:t>Tokyo Tyrant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GS創英角ﾎﾟｯﾌﾟ体"/>
              </a:rPr>
              <a:t>database server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HGS創英角ﾎﾟｯﾌﾟ体"/>
              </a:rPr>
              <a:t>Tokyo Dystopia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GS創英角ﾎﾟｯﾌﾟ体"/>
              </a:rPr>
              <a:t>full-text search engine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HGS創英角ﾎﾟｯﾌﾟ体"/>
              </a:rPr>
              <a:t>open source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GS創英角ﾎﾟｯﾌﾟ体"/>
              </a:rPr>
              <a:t>released under LGPL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HGS創英角ﾎﾟｯﾌﾟ体"/>
              </a:rPr>
              <a:t>powerful, portable, practical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GS創英角ﾎﾟｯﾌﾟ体"/>
              </a:rPr>
              <a:t>written in the standard C, optimized to POSIX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41" name=""/>
          <p:cNvSpPr/>
          <p:nvPr/>
        </p:nvSpPr>
        <p:spPr>
          <a:xfrm>
            <a:off x="4643280" y="3500280"/>
            <a:ext cx="4176720" cy="5050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Tokyo Products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43" name=""/>
          <p:cNvSpPr/>
          <p:nvPr/>
        </p:nvSpPr>
        <p:spPr>
          <a:xfrm>
            <a:off x="4643280" y="3068640"/>
            <a:ext cx="4176720" cy="50472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kyo Cabi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2637000"/>
            <a:ext cx="1441440" cy="5047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stom stor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12000" y="2637000"/>
            <a:ext cx="1439640" cy="50472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kyo Tyr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380360" y="2637000"/>
            <a:ext cx="1439640" cy="50472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kyo Dystop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3280" y="2205000"/>
            <a:ext cx="4176720" cy="5047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4572000" y="1413000"/>
            <a:ext cx="4392720" cy="525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859280" y="1773360"/>
            <a:ext cx="865080" cy="431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788000" y="1700280"/>
            <a:ext cx="865080" cy="431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case: Cache for Big Storages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876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works as proxy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mediates insert/search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write through, read through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Lua extension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atomic operation by record locking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uses LuaSocket to access the storage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proper DB scheme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TCMDB: for generic cache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TCNDB: for biased access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TCHDB: for large records such as image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TCFDB: for small records such as timestamp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HGS創英角ﾎﾟｯﾌﾟ体"/>
            </a:endParaRPr>
          </a:p>
        </p:txBody>
      </p:sp>
      <p:sp>
        <p:nvSpPr>
          <p:cNvPr id="559" name=""/>
          <p:cNvSpPr/>
          <p:nvPr/>
        </p:nvSpPr>
        <p:spPr>
          <a:xfrm>
            <a:off x="7378560" y="2368440"/>
            <a:ext cx="1440000" cy="388944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3889440"/>
              <a:gd name="textAreaBottom" fmla="*/ 3819240 h 3889440"/>
            </a:gdLst>
            <a:ahLst/>
            <a:rect l="textAreaLeft" t="textAreaTop" r="textAreaRight" b="textAreaBottom"/>
            <a:pathLst>
              <a:path w="21600" h="58332">
                <a:moveTo>
                  <a:pt x="3600" y="0"/>
                </a:moveTo>
                <a:arcTo wR="3600" hR="3600" stAng="16200000" swAng="-5400000"/>
                <a:lnTo>
                  <a:pt x="0" y="54732"/>
                </a:lnTo>
                <a:arcTo wR="3600" hR="3600" stAng="10800000" swAng="-5400000"/>
                <a:lnTo>
                  <a:pt x="18000" y="583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594560" y="4529160"/>
            <a:ext cx="934920" cy="6858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594560" y="5321160"/>
            <a:ext cx="934920" cy="6858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594560" y="2944800"/>
            <a:ext cx="934920" cy="6858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594560" y="3736800"/>
            <a:ext cx="934920" cy="6858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450560" y="249228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ySQL/h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580000" y="2347920"/>
            <a:ext cx="1440000" cy="396072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3960720"/>
              <a:gd name="textAreaBottom" fmla="*/ 3890520 h 3960720"/>
            </a:gdLst>
            <a:ahLst/>
            <a:rect l="textAreaLeft" t="textAreaTop" r="textAreaRight" b="textAreaBottom"/>
            <a:pathLst>
              <a:path w="21600" h="59401">
                <a:moveTo>
                  <a:pt x="3600" y="0"/>
                </a:moveTo>
                <a:arcTo wR="3600" hR="3600" stAng="16200000" swAng="-5400000"/>
                <a:lnTo>
                  <a:pt x="0" y="55801"/>
                </a:lnTo>
                <a:arcTo wR="3600" hR="3600" stAng="10800000" swAng="-5400000"/>
                <a:lnTo>
                  <a:pt x="18000" y="59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867280" y="5230800"/>
            <a:ext cx="935280" cy="6858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650200" y="247176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kyo Tyr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722920" y="2924280"/>
            <a:ext cx="1214280" cy="93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omic 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867280" y="3357720"/>
            <a:ext cx="938160" cy="431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L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24360" y="4078440"/>
            <a:ext cx="1214640" cy="93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omic 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867280" y="4510080"/>
            <a:ext cx="938160" cy="431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L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716360" y="1628640"/>
            <a:ext cx="865440" cy="432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43280" y="1557360"/>
            <a:ext cx="865440" cy="431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4" name=""/>
          <p:cNvCxnSpPr/>
          <p:nvPr/>
        </p:nvCxnSpPr>
        <p:spPr>
          <a:xfrm>
            <a:off x="6804000" y="3455640"/>
            <a:ext cx="573840" cy="524160"/>
          </a:xfrm>
          <a:prstGeom prst="curvedConnector5">
            <a:avLst>
              <a:gd name="adj1" fmla="val 49843"/>
              <a:gd name="adj2" fmla="val 49965"/>
              <a:gd name="adj3" fmla="val 498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/>
          <p:nvPr/>
        </p:nvCxnSpPr>
        <p:spPr>
          <a:xfrm flipH="1">
            <a:off x="6803280" y="3716280"/>
            <a:ext cx="3960" cy="2000880"/>
          </a:xfrm>
          <a:prstGeom prst="curvedConnector5">
            <a:avLst>
              <a:gd name="adj1" fmla="val -15450000"/>
              <a:gd name="adj2" fmla="val 49991"/>
              <a:gd name="adj3" fmla="val -154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/>
          <p:nvPr/>
        </p:nvCxnSpPr>
        <p:spPr>
          <a:xfrm flipV="1" rot="10800000">
            <a:off x="6803280" y="4076280"/>
            <a:ext cx="573840" cy="629280"/>
          </a:xfrm>
          <a:prstGeom prst="curvedConnector5">
            <a:avLst>
              <a:gd name="adj1" fmla="val 50094"/>
              <a:gd name="adj2" fmla="val 49971"/>
              <a:gd name="adj3" fmla="val 500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/>
          <p:nvPr/>
        </p:nvCxnSpPr>
        <p:spPr>
          <a:xfrm flipH="1">
            <a:off x="6803280" y="4797000"/>
            <a:ext cx="3960" cy="848520"/>
          </a:xfrm>
          <a:prstGeom prst="curvedConnector5">
            <a:avLst>
              <a:gd name="adj1" fmla="val -9300000"/>
              <a:gd name="adj2" fmla="val 50000"/>
              <a:gd name="adj3" fmla="val -93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8" name=""/>
          <p:cNvCxnSpPr>
            <a:endCxn id="568" idx="1"/>
          </p:cNvCxnSpPr>
          <p:nvPr/>
        </p:nvCxnSpPr>
        <p:spPr>
          <a:xfrm flipH="1" rot="16200000">
            <a:off x="4758840" y="2429280"/>
            <a:ext cx="1404360" cy="523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9" name=""/>
          <p:cNvCxnSpPr>
            <a:stCxn id="570" idx="1"/>
          </p:cNvCxnSpPr>
          <p:nvPr/>
        </p:nvCxnSpPr>
        <p:spPr>
          <a:xfrm rot="10800000">
            <a:off x="5017320" y="1985400"/>
            <a:ext cx="707040" cy="2561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6747120" y="1628640"/>
            <a:ext cx="2467080" cy="45900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inserts to the sto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inserts to the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297320" y="5805360"/>
            <a:ext cx="2779560" cy="82404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etrieves from the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ound, re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retrieves from the sto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inserts to the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2" name=""/>
          <p:cNvCxnSpPr>
            <a:stCxn id="580" idx="2"/>
            <a:endCxn id="568" idx="0"/>
          </p:cNvCxnSpPr>
          <p:nvPr/>
        </p:nvCxnSpPr>
        <p:spPr>
          <a:xfrm flipH="1">
            <a:off x="6330600" y="2085480"/>
            <a:ext cx="1650240" cy="839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83" name=""/>
          <p:cNvCxnSpPr>
            <a:stCxn id="570" idx="2"/>
            <a:endCxn id="581" idx="0"/>
          </p:cNvCxnSpPr>
          <p:nvPr/>
        </p:nvCxnSpPr>
        <p:spPr>
          <a:xfrm flipH="1">
            <a:off x="5687640" y="5014800"/>
            <a:ext cx="645120" cy="7912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Example Code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585" name=""/>
          <p:cNvSpPr/>
          <p:nvPr/>
        </p:nvSpPr>
        <p:spPr>
          <a:xfrm>
            <a:off x="179280" y="1268280"/>
            <a:ext cx="4357800" cy="5183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#include &lt;</a:t>
            </a:r>
            <a:r>
              <a:rPr b="1" lang="en-US" sz="900" spc="-1" strike="noStrike">
                <a:solidFill>
                  <a:srgbClr val="ff9999"/>
                </a:solidFill>
                <a:latin typeface="Courier New"/>
              </a:rPr>
              <a:t>tcrdb.h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#include &lt;stdlib.h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#include &lt;stdbool.h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#include &lt;stdint.h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int main(int argc, char **argv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TCRDB *rdb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int ecod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char *valu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en-US" sz="900" spc="-1" strike="noStrike">
                <a:solidFill>
                  <a:srgbClr val="99ccff"/>
                </a:solidFill>
                <a:latin typeface="Courier New"/>
              </a:rPr>
              <a:t>/* create the object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rdb = </a:t>
            </a:r>
            <a:r>
              <a:rPr b="1" lang="en-US" sz="900" spc="-1" strike="noStrike">
                <a:solidFill>
                  <a:srgbClr val="ffff66"/>
                </a:solidFill>
                <a:latin typeface="Courier New"/>
              </a:rPr>
              <a:t>tcrdbnew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en-US" sz="900" spc="-1" strike="noStrike">
                <a:solidFill>
                  <a:srgbClr val="99ccff"/>
                </a:solidFill>
                <a:latin typeface="Courier New"/>
              </a:rPr>
              <a:t>/* connect to the server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if(!</a:t>
            </a:r>
            <a:r>
              <a:rPr b="1" lang="en-US" sz="900" spc="-1" strike="noStrike">
                <a:solidFill>
                  <a:srgbClr val="ffff66"/>
                </a:solidFill>
                <a:latin typeface="Courier New"/>
              </a:rPr>
              <a:t>tcrdbopen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(rdb, "localhost", 1978)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ecode = tcrdbecode(r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fprintf(stderr, "open error: %s\n", tcrdberrmsg(ecode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en-US" sz="900" spc="-1" strike="noStrike">
                <a:solidFill>
                  <a:srgbClr val="99ccff"/>
                </a:solidFill>
                <a:latin typeface="Courier New"/>
              </a:rPr>
              <a:t>/* store records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if(!</a:t>
            </a:r>
            <a:r>
              <a:rPr b="1" lang="en-US" sz="900" spc="-1" strike="noStrike">
                <a:solidFill>
                  <a:srgbClr val="ffff66"/>
                </a:solidFill>
                <a:latin typeface="Courier New"/>
              </a:rPr>
              <a:t>tcrdbput2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(rdb, "foo", "hop") |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!</a:t>
            </a:r>
            <a:r>
              <a:rPr b="1" lang="en-US" sz="900" spc="-1" strike="noStrike">
                <a:solidFill>
                  <a:srgbClr val="ffff66"/>
                </a:solidFill>
                <a:latin typeface="Courier New"/>
              </a:rPr>
              <a:t>tcrdbput2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(rdb, "bar", "step") |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!</a:t>
            </a:r>
            <a:r>
              <a:rPr b="1" lang="en-US" sz="900" spc="-1" strike="noStrike">
                <a:solidFill>
                  <a:srgbClr val="ffff66"/>
                </a:solidFill>
                <a:latin typeface="Courier New"/>
              </a:rPr>
              <a:t>tcrdbput2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(rdb, "baz", "jump")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ecode = tcrdbecode(r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fprintf(stderr, "put error: %s\n", tcrdberrmsg(ecode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en-US" sz="900" spc="-1" strike="noStrike">
                <a:solidFill>
                  <a:srgbClr val="99ccff"/>
                </a:solidFill>
                <a:latin typeface="Courier New"/>
              </a:rPr>
              <a:t>/* retrieve records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value = </a:t>
            </a:r>
            <a:r>
              <a:rPr b="1" lang="en-US" sz="900" spc="-1" strike="noStrike">
                <a:solidFill>
                  <a:srgbClr val="ffff66"/>
                </a:solidFill>
                <a:latin typeface="Courier New"/>
              </a:rPr>
              <a:t>tcrdbget2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(rdb, "foo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if(value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printf("%s\n", value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free(value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ecode = tcrdbecode(r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fprintf(stderr, "get error: %s\n", tcrdberrmsg(ecode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643280" y="4724280"/>
            <a:ext cx="4357800" cy="18716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ja-JP" sz="900" spc="-1" strike="noStrike">
                <a:solidFill>
                  <a:srgbClr val="99ccff"/>
                </a:solidFill>
                <a:latin typeface="Courier New"/>
              </a:rPr>
              <a:t>/* close the connection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if(!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rdbclose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rdb)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ecode = tcrdbecode(r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printf(stderr, "close error: %s\n", tcrdberrmsg(ecode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ja-JP" sz="900" spc="-1" strike="noStrike">
                <a:solidFill>
                  <a:srgbClr val="99ccff"/>
                </a:solidFill>
                <a:latin typeface="Courier New"/>
              </a:rPr>
              <a:t>/* delete the object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rdbdel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r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Tokyo Dystopia</a:t>
            </a:r>
            <a:br>
              <a:rPr sz="4900"/>
            </a:br>
            <a:r>
              <a:rPr b="0" lang="en-US" sz="2900" spc="-1" strike="noStrike">
                <a:solidFill>
                  <a:srgbClr val="ffffff"/>
                </a:solidFill>
                <a:latin typeface="HGS創英角ﾎﾟｯﾌﾟ体"/>
              </a:rPr>
              <a:t>- full-text search engine -</a:t>
            </a:r>
            <a:endParaRPr b="0" lang="en-US" sz="2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Features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full-text search engine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manages databases of Tokyo Cabinet as an inverted index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combines two tokenizers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character N-gram (bi-gram) method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perfect recall ratio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simple word by outer language processor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high accuracy and high performance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high performance/scalability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handles more than 10 million documents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searches in milliseconds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108000" y="188640"/>
            <a:ext cx="8928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HGS創英角ﾎﾟｯﾌﾟ体"/>
              </a:rPr>
              <a:t>optimized to professional use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S創英角ﾎﾟｯﾌﾟ体"/>
              </a:rPr>
              <a:t>layered architecture of APIs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S創英角ﾎﾟｯﾌﾟ体"/>
              </a:rPr>
              <a:t>no embedded scoring system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GS創英角ﾎﾟｯﾌﾟ体"/>
              </a:rPr>
              <a:t>to combine outer scoring system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S創英角ﾎﾟｯﾌﾟ体"/>
              </a:rPr>
              <a:t>no text filter, no crawler, no language processor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spcBef>
                <a:spcPts val="10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HGS創英角ﾎﾟｯﾌﾟ体"/>
              </a:rPr>
              <a:t>convenient utilities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S創英角ﾎﾟｯﾌﾟ体"/>
              </a:rPr>
              <a:t>multilingualism with Unicode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S創英角ﾎﾟｯﾌﾟ体"/>
              </a:rPr>
              <a:t>set operations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S創英角ﾎﾟｯﾌﾟ体"/>
              </a:rPr>
              <a:t>phrase matching, prefix matching, suffix matching, and token matching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S創英角ﾎﾟｯﾌﾟ体"/>
              </a:rPr>
              <a:t>command line utilities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Inverted Index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HGS創英角ﾎﾟｯﾌﾟ体"/>
              </a:rPr>
              <a:t>stands on key/value database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GS創英角ﾎﾟｯﾌﾟ体"/>
              </a:rPr>
              <a:t>key = token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GS創英角ﾎﾟｯﾌﾟ体"/>
              </a:rPr>
              <a:t>N-gram or simple word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GS創英角ﾎﾟｯﾌﾟ体"/>
              </a:rPr>
              <a:t>value = occurrence data (posting list)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GS創英角ﾎﾟｯﾌﾟ体"/>
              </a:rPr>
              <a:t>list of pairs of document number and offset in the document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HGS創英角ﾎﾟｯﾌﾟ体"/>
              </a:rPr>
              <a:t>uses B+ tree database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GS創英角ﾎﾟｯﾌﾟ体"/>
              </a:rPr>
              <a:t>reduces write operations into the disk device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GS創英角ﾎﾟｯﾌﾟ体"/>
              </a:rPr>
              <a:t>enables common prefix search for tokens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GS創英角ﾎﾟｯﾌﾟ体"/>
              </a:rPr>
              <a:t>delta encoding and deflate compression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593" name=""/>
          <p:cNvSpPr/>
          <p:nvPr/>
        </p:nvSpPr>
        <p:spPr>
          <a:xfrm>
            <a:off x="1258920" y="5040360"/>
            <a:ext cx="6408720" cy="16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325160" y="5084640"/>
            <a:ext cx="59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D:21   text: "abracadabra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693440" y="5535720"/>
            <a:ext cx="45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urier New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urier New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urier New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644360" y="5535720"/>
            <a:ext cx="45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urier New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urier New"/>
              </a:rPr>
              <a:t>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urier New"/>
              </a:rPr>
              <a:t>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126520" y="5537160"/>
            <a:ext cx="155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1: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1:0,21: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1: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1: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633920" y="5124600"/>
            <a:ext cx="385920" cy="431640"/>
          </a:xfrm>
          <a:prstGeom prst="rect">
            <a:avLst/>
          </a:prstGeom>
          <a:noFill/>
          <a:ln w="158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067360" y="5124600"/>
            <a:ext cx="385560" cy="431640"/>
          </a:xfrm>
          <a:prstGeom prst="rect">
            <a:avLst/>
          </a:prstGeom>
          <a:noFill/>
          <a:ln w="158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499000" y="5124600"/>
            <a:ext cx="385920" cy="431640"/>
          </a:xfrm>
          <a:prstGeom prst="rect">
            <a:avLst/>
          </a:prstGeom>
          <a:noFill/>
          <a:ln w="158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919840" y="5124600"/>
            <a:ext cx="385560" cy="431640"/>
          </a:xfrm>
          <a:prstGeom prst="rect">
            <a:avLst/>
          </a:prstGeom>
          <a:noFill/>
          <a:ln w="158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34200" y="5126040"/>
            <a:ext cx="385560" cy="431640"/>
          </a:xfrm>
          <a:prstGeom prst="rect">
            <a:avLst/>
          </a:prstGeom>
          <a:noFill/>
          <a:ln w="158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743880" y="5124600"/>
            <a:ext cx="195120" cy="431640"/>
          </a:xfrm>
          <a:prstGeom prst="rect">
            <a:avLst/>
          </a:prstGeom>
          <a:noFill/>
          <a:ln w="158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821120" y="5178600"/>
            <a:ext cx="385920" cy="431640"/>
          </a:xfrm>
          <a:prstGeom prst="rect">
            <a:avLst/>
          </a:prstGeom>
          <a:noFill/>
          <a:ln w="1584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275440" y="5175360"/>
            <a:ext cx="385560" cy="431640"/>
          </a:xfrm>
          <a:prstGeom prst="rect">
            <a:avLst/>
          </a:prstGeom>
          <a:noFill/>
          <a:ln w="1584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703840" y="5168880"/>
            <a:ext cx="385920" cy="432000"/>
          </a:xfrm>
          <a:prstGeom prst="rect">
            <a:avLst/>
          </a:prstGeom>
          <a:noFill/>
          <a:ln w="1584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122880" y="5157720"/>
            <a:ext cx="385920" cy="432000"/>
          </a:xfrm>
          <a:prstGeom prst="rect">
            <a:avLst/>
          </a:prstGeom>
          <a:noFill/>
          <a:ln w="1584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543720" y="5157720"/>
            <a:ext cx="385560" cy="432000"/>
          </a:xfrm>
          <a:prstGeom prst="rect">
            <a:avLst/>
          </a:prstGeom>
          <a:noFill/>
          <a:ln w="1584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079240" y="5518080"/>
            <a:ext cx="167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1:1, 21: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1: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1:2, 21: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character N-gram index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"q-gram index" (only index), and "indexed database"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uses embedded tokenizer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word index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"word index" (only index), and "tagged index"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uses outer tokenizer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611" name=""/>
          <p:cNvSpPr/>
          <p:nvPr/>
        </p:nvSpPr>
        <p:spPr>
          <a:xfrm>
            <a:off x="4284720" y="4149720"/>
            <a:ext cx="4753080" cy="259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Layered Architecture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613" name=""/>
          <p:cNvSpPr/>
          <p:nvPr/>
        </p:nvSpPr>
        <p:spPr>
          <a:xfrm>
            <a:off x="4502160" y="6202440"/>
            <a:ext cx="4419720" cy="4572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yo Cabi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502160" y="5592600"/>
            <a:ext cx="2057400" cy="4572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-gram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788160" y="5592600"/>
            <a:ext cx="2057400" cy="4572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502160" y="5059440"/>
            <a:ext cx="20574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ed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788160" y="5059440"/>
            <a:ext cx="20574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gged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349880" y="4754520"/>
            <a:ext cx="2286000" cy="1371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711840" y="4754520"/>
            <a:ext cx="2286000" cy="1371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344840" y="4754520"/>
            <a:ext cx="209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acter N-gram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700040" y="475452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gging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502160" y="4221000"/>
            <a:ext cx="441972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900" spc="-1" strike="noStrike">
                <a:solidFill>
                  <a:srgbClr val="ffffff"/>
                </a:solidFill>
                <a:latin typeface="HGS創英角ﾎﾟｯﾌﾟ体"/>
              </a:rPr>
              <a:t>case: friend search at mixi.jp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876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HGS創英角ﾎﾟｯﾌﾟ体"/>
              </a:rPr>
              <a:t>20 million records</a:t>
            </a:r>
            <a:endParaRPr b="0" lang="en-US" sz="28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ﾎﾟｯﾌﾟ体"/>
              </a:rPr>
              <a:t>each record size is 1K bytes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ﾎﾟｯﾌﾟ体"/>
              </a:rPr>
              <a:t>name and self introduction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HGS創英角ﾎﾟｯﾌﾟ体"/>
              </a:rPr>
              <a:t>more than 100 qps</a:t>
            </a:r>
            <a:endParaRPr b="0" lang="en-US" sz="2800" spc="-1" strike="noStrike">
              <a:solidFill>
                <a:srgbClr val="ffff66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HGS創英角ﾎﾟｯﾌﾟ体"/>
              </a:rPr>
              <a:t>attribute narrowing</a:t>
            </a:r>
            <a:endParaRPr b="0" lang="en-US" sz="28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ﾎﾟｯﾌﾟ体"/>
              </a:rPr>
              <a:t>gender, address, birthday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ﾎﾟｯﾌﾟ体"/>
              </a:rPr>
              <a:t>multiple sort orders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HGS創英角ﾎﾟｯﾌﾟ体"/>
              </a:rPr>
              <a:t>distributed processing</a:t>
            </a:r>
            <a:endParaRPr b="0" lang="en-US" sz="28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ﾎﾟｯﾌﾟ体"/>
              </a:rPr>
              <a:t>more than 10 servers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ﾎﾟｯﾌﾟ体"/>
              </a:rPr>
              <a:t>indexer, searchers, merger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66"/>
                </a:solidFill>
                <a:latin typeface="HGS創英角ﾎﾟｯﾌﾟ体"/>
              </a:rPr>
              <a:t>ranking by social graph</a:t>
            </a:r>
            <a:endParaRPr b="0" lang="en-US" sz="28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ﾎﾟｯﾌﾟ体"/>
              </a:rPr>
              <a:t>the merger scores the result by following the friend links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625" name=""/>
          <p:cNvSpPr/>
          <p:nvPr/>
        </p:nvSpPr>
        <p:spPr>
          <a:xfrm>
            <a:off x="4643280" y="1341360"/>
            <a:ext cx="4321440" cy="532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013440" y="5877000"/>
            <a:ext cx="792000" cy="57456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877080" y="5877000"/>
            <a:ext cx="792000" cy="57456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445080" y="6019920"/>
            <a:ext cx="792360" cy="57456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ile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788000" y="4437000"/>
            <a:ext cx="1728720" cy="100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932360" y="4726080"/>
            <a:ext cx="719280" cy="6462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724360" y="4726080"/>
            <a:ext cx="719280" cy="6462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790880" y="436572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164360" y="3502080"/>
            <a:ext cx="1728720" cy="100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021440" y="3429000"/>
            <a:ext cx="1728720" cy="100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877080" y="3357720"/>
            <a:ext cx="1728720" cy="100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732720" y="3284640"/>
            <a:ext cx="1728720" cy="100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877080" y="3573360"/>
            <a:ext cx="719280" cy="6462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7669080" y="3573360"/>
            <a:ext cx="719280" cy="6462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735240" y="3213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788000" y="2276640"/>
            <a:ext cx="1728720" cy="1008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932360" y="2565360"/>
            <a:ext cx="719280" cy="6462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'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724360" y="2565360"/>
            <a:ext cx="719280" cy="6462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790160" y="2205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4" name=""/>
          <p:cNvCxnSpPr>
            <a:stCxn id="628" idx="1"/>
            <a:endCxn id="630" idx="3"/>
          </p:cNvCxnSpPr>
          <p:nvPr/>
        </p:nvCxnSpPr>
        <p:spPr>
          <a:xfrm flipV="1" rot="16200000">
            <a:off x="5743080" y="4920480"/>
            <a:ext cx="648360" cy="1550160"/>
          </a:xfrm>
          <a:prstGeom prst="curvedConnector5">
            <a:avLst>
              <a:gd name="adj1" fmla="val 50000"/>
              <a:gd name="adj2" fmla="val 49988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5" name=""/>
          <p:cNvCxnSpPr>
            <a:stCxn id="628" idx="1"/>
            <a:endCxn id="631" idx="3"/>
          </p:cNvCxnSpPr>
          <p:nvPr/>
        </p:nvCxnSpPr>
        <p:spPr>
          <a:xfrm flipV="1" rot="16200000">
            <a:off x="6139080" y="5316480"/>
            <a:ext cx="648360" cy="758160"/>
          </a:xfrm>
          <a:prstGeom prst="curvedConnector5">
            <a:avLst>
              <a:gd name="adj1" fmla="val 50000"/>
              <a:gd name="adj2" fmla="val 49976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6" name=""/>
          <p:cNvCxnSpPr>
            <a:stCxn id="630" idx="4"/>
            <a:endCxn id="637" idx="2"/>
          </p:cNvCxnSpPr>
          <p:nvPr/>
        </p:nvCxnSpPr>
        <p:spPr>
          <a:xfrm flipV="1">
            <a:off x="5651640" y="3897000"/>
            <a:ext cx="1226160" cy="1152720"/>
          </a:xfrm>
          <a:prstGeom prst="curvedConnector5">
            <a:avLst>
              <a:gd name="adj1" fmla="val 49867"/>
              <a:gd name="adj2" fmla="val 49984"/>
              <a:gd name="adj3" fmla="val 498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7" name=""/>
          <p:cNvCxnSpPr>
            <a:stCxn id="631" idx="4"/>
            <a:endCxn id="638" idx="2"/>
          </p:cNvCxnSpPr>
          <p:nvPr/>
        </p:nvCxnSpPr>
        <p:spPr>
          <a:xfrm flipV="1">
            <a:off x="6443640" y="3897000"/>
            <a:ext cx="1226160" cy="1152720"/>
          </a:xfrm>
          <a:prstGeom prst="curvedConnector5">
            <a:avLst>
              <a:gd name="adj1" fmla="val 49867"/>
              <a:gd name="adj2" fmla="val 49984"/>
              <a:gd name="adj3" fmla="val 498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8" name=""/>
          <p:cNvCxnSpPr>
            <a:stCxn id="631" idx="1"/>
            <a:endCxn id="642" idx="3"/>
          </p:cNvCxnSpPr>
          <p:nvPr/>
        </p:nvCxnSpPr>
        <p:spPr>
          <a:xfrm flipV="1">
            <a:off x="6084360" y="3210840"/>
            <a:ext cx="1080" cy="1515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"/>
          <p:cNvSpPr/>
          <p:nvPr/>
        </p:nvSpPr>
        <p:spPr>
          <a:xfrm>
            <a:off x="6297120" y="5423040"/>
            <a:ext cx="1559880" cy="3070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p profil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581160" y="4653000"/>
            <a:ext cx="2277720" cy="3070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 the index and the 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710600" y="3573360"/>
            <a:ext cx="1870920" cy="3070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 the social gra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732720" y="1628640"/>
            <a:ext cx="1728720" cy="432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3" name=""/>
          <p:cNvCxnSpPr>
            <a:stCxn id="652" idx="1"/>
            <a:endCxn id="640" idx="0"/>
          </p:cNvCxnSpPr>
          <p:nvPr/>
        </p:nvCxnSpPr>
        <p:spPr>
          <a:xfrm flipV="1" rot="10800000">
            <a:off x="5652360" y="1844280"/>
            <a:ext cx="1080360" cy="4327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4" name=""/>
          <p:cNvCxnSpPr>
            <a:stCxn id="640" idx="3"/>
            <a:endCxn id="636" idx="0"/>
          </p:cNvCxnSpPr>
          <p:nvPr/>
        </p:nvCxnSpPr>
        <p:spPr>
          <a:xfrm>
            <a:off x="6516360" y="2781360"/>
            <a:ext cx="1081800" cy="5040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55" name=""/>
          <p:cNvSpPr/>
          <p:nvPr/>
        </p:nvSpPr>
        <p:spPr>
          <a:xfrm>
            <a:off x="7020000" y="2614680"/>
            <a:ext cx="627120" cy="3070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508720" y="1751040"/>
            <a:ext cx="627120" cy="3070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Example Code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658" name=""/>
          <p:cNvSpPr/>
          <p:nvPr/>
        </p:nvSpPr>
        <p:spPr>
          <a:xfrm>
            <a:off x="179280" y="1413000"/>
            <a:ext cx="4357800" cy="38876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#include &lt;</a:t>
            </a:r>
            <a:r>
              <a:rPr b="1" lang="en-US" sz="900" spc="-1" strike="noStrike">
                <a:solidFill>
                  <a:srgbClr val="ff9999"/>
                </a:solidFill>
                <a:latin typeface="Courier New"/>
              </a:rPr>
              <a:t>dystopia.h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#include &lt;stdlib.h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#include &lt;stdbool.h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#include &lt;stdint.h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int main(int argc, char **argv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TCIDB *idb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int ecode, rnum, 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uint64_t *resul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char *tex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en-US" sz="900" spc="-1" strike="noStrike">
                <a:solidFill>
                  <a:srgbClr val="99ccff"/>
                </a:solidFill>
                <a:latin typeface="Courier New"/>
              </a:rPr>
              <a:t>/* create the object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idb = </a:t>
            </a:r>
            <a:r>
              <a:rPr b="1" lang="en-US" sz="900" spc="-1" strike="noStrike">
                <a:solidFill>
                  <a:srgbClr val="ffff66"/>
                </a:solidFill>
                <a:latin typeface="Courier New"/>
              </a:rPr>
              <a:t>tcidbnew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en-US" sz="900" spc="-1" strike="noStrike">
                <a:solidFill>
                  <a:srgbClr val="99ccff"/>
                </a:solidFill>
                <a:latin typeface="Courier New"/>
              </a:rPr>
              <a:t>/* open the database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if(!</a:t>
            </a:r>
            <a:r>
              <a:rPr b="1" lang="en-US" sz="900" spc="-1" strike="noStrike">
                <a:solidFill>
                  <a:srgbClr val="ffff66"/>
                </a:solidFill>
                <a:latin typeface="Courier New"/>
              </a:rPr>
              <a:t>tcidbopen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(idb, "casket", IDBOWRITER | IDBOCREAT)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ecode = tcidbecode(i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fprintf(stderr, "open error: %s\n", tcidberrmsg(ecode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en-US" sz="900" spc="-1" strike="noStrike">
                <a:solidFill>
                  <a:srgbClr val="99ccff"/>
                </a:solidFill>
                <a:latin typeface="Courier New"/>
              </a:rPr>
              <a:t>/* store records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if(!</a:t>
            </a:r>
            <a:r>
              <a:rPr b="1" lang="en-US" sz="900" spc="-1" strike="noStrike">
                <a:solidFill>
                  <a:srgbClr val="ffff66"/>
                </a:solidFill>
                <a:latin typeface="Courier New"/>
              </a:rPr>
              <a:t>tcidbput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(idb, 1, "George Washington") |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!</a:t>
            </a:r>
            <a:r>
              <a:rPr b="1" lang="en-US" sz="900" spc="-1" strike="noStrike">
                <a:solidFill>
                  <a:srgbClr val="ffff66"/>
                </a:solidFill>
                <a:latin typeface="Courier New"/>
              </a:rPr>
              <a:t>tcidbput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(idb, 2, "John Adams") |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!</a:t>
            </a:r>
            <a:r>
              <a:rPr b="1" lang="en-US" sz="900" spc="-1" strike="noStrike">
                <a:solidFill>
                  <a:srgbClr val="ffff66"/>
                </a:solidFill>
                <a:latin typeface="Courier New"/>
              </a:rPr>
              <a:t>tcidbput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(idb, 3, "Thomas Jefferson")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ecode = tcidbecode(i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fprintf(stderr, "put error: %s\n", tcidberrmsg(ecode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643280" y="2637000"/>
            <a:ext cx="4357800" cy="4032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ja-JP" sz="900" spc="-1" strike="noStrike">
                <a:solidFill>
                  <a:srgbClr val="99ccff"/>
                </a:solidFill>
                <a:latin typeface="Courier New"/>
              </a:rPr>
              <a:t>/* search records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result = 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idbsearch2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idb, "john || thomas", &amp;rnum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if(result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or(i = 0; i &lt; rnum; i++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text = 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idbget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idb, result[i]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if(text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printf("%d\t%s\n", (int)result[i], text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ree(text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ree(result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ecode = tcidbecode(i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printf(stderr, "search error: %s\n", tcidberrmsg(ecode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ja-JP" sz="900" spc="-1" strike="noStrike">
                <a:solidFill>
                  <a:srgbClr val="99ccff"/>
                </a:solidFill>
                <a:latin typeface="Courier New"/>
              </a:rPr>
              <a:t>/* close the database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if(!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idbclose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idb)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ecode = tcidbecode(i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fprintf(stderr, "close error: %s\n", tcidberrmsg(ecode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i="1" lang="ja-JP" sz="900" spc="-1" strike="noStrike">
                <a:solidFill>
                  <a:srgbClr val="99ccff"/>
                </a:solidFill>
                <a:latin typeface="Courier New"/>
              </a:rPr>
              <a:t>/* delete the object 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ja-JP" sz="900" spc="-1" strike="noStrike">
                <a:solidFill>
                  <a:srgbClr val="ffff66"/>
                </a:solidFill>
                <a:latin typeface="Courier New"/>
              </a:rPr>
              <a:t>tcidbdel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(idb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2327040" y="5516640"/>
            <a:ext cx="6339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HGS創英角ﾎﾟｯﾌﾟ体"/>
                <a:ea typeface="HGS創英角ﾎﾟｯﾌﾟ体"/>
              </a:rPr>
              <a:t>innovating more and yet mor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ﾎﾟｯﾌﾟ体"/>
                <a:ea typeface="HGS創英角ﾎﾟｯﾌﾟ体"/>
              </a:rPr>
              <a:t> </a:t>
            </a:r>
            <a:r>
              <a:rPr b="0" lang="ja-JP" sz="1800" spc="-1" strike="noStrike">
                <a:solidFill>
                  <a:srgbClr val="ffffff"/>
                </a:solidFill>
                <a:latin typeface="HGS創英角ﾎﾟｯﾌﾟ体"/>
                <a:ea typeface="HGS創英角ﾎﾟｯﾌﾟ体"/>
              </a:rPr>
              <a:t>http://tokyocabinet.sourceforge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Tokyo Cabinet</a:t>
            </a:r>
            <a:br>
              <a:rPr sz="4900"/>
            </a:br>
            <a:r>
              <a:rPr b="0" lang="en-US" sz="2900" spc="-1" strike="noStrike">
                <a:solidFill>
                  <a:srgbClr val="ffffff"/>
                </a:solidFill>
                <a:latin typeface="HGS創英角ﾎﾟｯﾌﾟ体"/>
              </a:rPr>
              <a:t>- database library -</a:t>
            </a:r>
            <a:endParaRPr b="0" lang="en-US" sz="2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Features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928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66"/>
                </a:solidFill>
                <a:latin typeface="HGS創英角ﾎﾟｯﾌﾟ体"/>
              </a:rPr>
              <a:t>modern implementation of DBM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key/value database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e.g.) DBM, NDBM, GDBM, TDB, CDB, Berkeley DB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simple library = process embedded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Successor of QDBM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C99 and POSIX compatible, using Pthread, mmap, etc...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Win32 porting is work-in-progress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29040" indent="-329040">
              <a:spcBef>
                <a:spcPts val="10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66"/>
                </a:solidFill>
                <a:latin typeface="HGS創英角ﾎﾟｯﾌﾟ体"/>
              </a:rPr>
              <a:t>high performance</a:t>
            </a:r>
            <a:endParaRPr b="0" lang="en-US" sz="40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insert: 0.4 sec/1M records (2,500,000 qps)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HGS創英角ﾎﾟｯﾌﾟ体"/>
              </a:rPr>
              <a:t>search: 0.33 sec/1M records (3,000,000 qps)</a:t>
            </a:r>
            <a:endParaRPr b="0" lang="en-US" sz="28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8000" y="188640"/>
            <a:ext cx="8928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high concurrency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multi-thread safe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read/write locking by records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high scalability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hash and B+tree structure = O(1) and O(log N)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no actual limit size of a database file (to 8 exabytes)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transaction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write ahead logging and shadow paging 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ACID properties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various APIs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on-memory list/hash/tree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file hash/B+tree/array/table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script language bindings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Perl, Ruby, Java, Lua, Python, PHP, Haskell, Erlang, etc...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859280" y="1268280"/>
            <a:ext cx="3888000" cy="525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TCHDB: Hash Database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876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static hashing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O(1) time complexity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separate chaining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binary search tree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balances by the second hash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free block pool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best fit allocation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dynamic defragmentation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combines mmap and pwrite/pread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saves calling system calls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compression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deflate(gzip)/bzip2/custom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55" name=""/>
          <p:cNvSpPr/>
          <p:nvPr/>
        </p:nvSpPr>
        <p:spPr>
          <a:xfrm>
            <a:off x="521964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64000" y="1681200"/>
            <a:ext cx="14472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6920" y="1681200"/>
            <a:ext cx="14472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164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9600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4036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328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227640" y="1681200"/>
            <a:ext cx="14472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7236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1672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65964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0400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48360" y="1681200"/>
            <a:ext cx="14472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9308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23600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8036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2328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6764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81056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95492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99280" y="1681200"/>
            <a:ext cx="14472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4000" y="1681200"/>
            <a:ext cx="144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49880" y="2257560"/>
            <a:ext cx="7621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12000" y="2257560"/>
            <a:ext cx="23619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49880" y="2638440"/>
            <a:ext cx="7621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12000" y="2638440"/>
            <a:ext cx="23619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49880" y="3019320"/>
            <a:ext cx="7621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019320"/>
            <a:ext cx="23619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49880" y="3408480"/>
            <a:ext cx="7621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2000" y="3408480"/>
            <a:ext cx="23619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49880" y="3789360"/>
            <a:ext cx="7621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12000" y="3789360"/>
            <a:ext cx="23619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49880" y="4170240"/>
            <a:ext cx="7621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12000" y="4170240"/>
            <a:ext cx="23619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49880" y="4560840"/>
            <a:ext cx="7621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12000" y="4560840"/>
            <a:ext cx="23619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49880" y="4941720"/>
            <a:ext cx="7621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4941720"/>
            <a:ext cx="23619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49880" y="5322960"/>
            <a:ext cx="7621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12000" y="5322960"/>
            <a:ext cx="23619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49880" y="5713560"/>
            <a:ext cx="7621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12000" y="5713560"/>
            <a:ext cx="23619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49880" y="6094440"/>
            <a:ext cx="7621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6094440"/>
            <a:ext cx="23619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22160" y="132084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cket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60" idx="2"/>
            <a:endCxn id="77" idx="1"/>
          </p:cNvCxnSpPr>
          <p:nvPr/>
        </p:nvCxnSpPr>
        <p:spPr>
          <a:xfrm rot="5400000">
            <a:off x="5446800" y="1843560"/>
            <a:ext cx="369000" cy="764280"/>
          </a:xfrm>
          <a:prstGeom prst="curvedConnector5">
            <a:avLst>
              <a:gd name="adj1" fmla="val 28808"/>
              <a:gd name="adj2" fmla="val 64938"/>
              <a:gd name="adj3" fmla="val 2880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62" idx="2"/>
            <a:endCxn id="81" idx="1"/>
          </p:cNvCxnSpPr>
          <p:nvPr/>
        </p:nvCxnSpPr>
        <p:spPr>
          <a:xfrm rot="5400000">
            <a:off x="5209200" y="2081160"/>
            <a:ext cx="1131120" cy="1051560"/>
          </a:xfrm>
          <a:prstGeom prst="curvedConnector5">
            <a:avLst>
              <a:gd name="adj1" fmla="val 43107"/>
              <a:gd name="adj2" fmla="val 60856"/>
              <a:gd name="adj3" fmla="val 431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66" idx="2"/>
            <a:endCxn id="87" idx="1"/>
          </p:cNvCxnSpPr>
          <p:nvPr/>
        </p:nvCxnSpPr>
        <p:spPr>
          <a:xfrm rot="5400000">
            <a:off x="4922280" y="2368440"/>
            <a:ext cx="2282040" cy="1627920"/>
          </a:xfrm>
          <a:prstGeom prst="curvedConnector5">
            <a:avLst>
              <a:gd name="adj1" fmla="val 46623"/>
              <a:gd name="adj2" fmla="val 57022"/>
              <a:gd name="adj3" fmla="val 466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64" idx="2"/>
            <a:endCxn id="93" idx="1"/>
          </p:cNvCxnSpPr>
          <p:nvPr/>
        </p:nvCxnSpPr>
        <p:spPr>
          <a:xfrm rot="5400000">
            <a:off x="4202280" y="3088440"/>
            <a:ext cx="3434400" cy="1340640"/>
          </a:xfrm>
          <a:prstGeom prst="curvedConnector5">
            <a:avLst>
              <a:gd name="adj1" fmla="val 47751"/>
              <a:gd name="adj2" fmla="val 58528"/>
              <a:gd name="adj3" fmla="val 477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78" idx="3"/>
            <a:endCxn id="79" idx="1"/>
          </p:cNvCxnSpPr>
          <p:nvPr/>
        </p:nvCxnSpPr>
        <p:spPr>
          <a:xfrm flipH="1">
            <a:off x="5249520" y="2409840"/>
            <a:ext cx="3124800" cy="381600"/>
          </a:xfrm>
          <a:prstGeom prst="curvedConnector5">
            <a:avLst>
              <a:gd name="adj1" fmla="val -7304"/>
              <a:gd name="adj2" fmla="val 24929"/>
              <a:gd name="adj3" fmla="val -730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3" idx="1"/>
          </p:cNvCxnSpPr>
          <p:nvPr/>
        </p:nvCxnSpPr>
        <p:spPr>
          <a:xfrm flipH="1">
            <a:off x="5249520" y="3171960"/>
            <a:ext cx="3124800" cy="389520"/>
          </a:xfrm>
          <a:prstGeom prst="curvedConnector5">
            <a:avLst>
              <a:gd name="adj1" fmla="val -7304"/>
              <a:gd name="adj2" fmla="val 24884"/>
              <a:gd name="adj3" fmla="val -730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82" idx="3"/>
            <a:endCxn id="85" idx="1"/>
          </p:cNvCxnSpPr>
          <p:nvPr/>
        </p:nvCxnSpPr>
        <p:spPr>
          <a:xfrm flipH="1">
            <a:off x="5249520" y="3171960"/>
            <a:ext cx="3124800" cy="770400"/>
          </a:xfrm>
          <a:prstGeom prst="curvedConnector5">
            <a:avLst>
              <a:gd name="adj1" fmla="val -7304"/>
              <a:gd name="adj2" fmla="val 24918"/>
              <a:gd name="adj3" fmla="val -730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88" idx="3"/>
            <a:endCxn id="89" idx="1"/>
          </p:cNvCxnSpPr>
          <p:nvPr/>
        </p:nvCxnSpPr>
        <p:spPr>
          <a:xfrm flipH="1">
            <a:off x="5249520" y="4322880"/>
            <a:ext cx="3124800" cy="390960"/>
          </a:xfrm>
          <a:prstGeom prst="curvedConnector5">
            <a:avLst>
              <a:gd name="adj1" fmla="val -7304"/>
              <a:gd name="adj2" fmla="val 24976"/>
              <a:gd name="adj3" fmla="val -730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0" idx="3"/>
            <a:endCxn id="91" idx="1"/>
          </p:cNvCxnSpPr>
          <p:nvPr/>
        </p:nvCxnSpPr>
        <p:spPr>
          <a:xfrm flipH="1">
            <a:off x="5249520" y="4712760"/>
            <a:ext cx="3124800" cy="381960"/>
          </a:xfrm>
          <a:prstGeom prst="curvedConnector5">
            <a:avLst>
              <a:gd name="adj1" fmla="val -7304"/>
              <a:gd name="adj2" fmla="val 25000"/>
              <a:gd name="adj3" fmla="val -730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94" idx="3"/>
            <a:endCxn id="95" idx="1"/>
          </p:cNvCxnSpPr>
          <p:nvPr/>
        </p:nvCxnSpPr>
        <p:spPr>
          <a:xfrm flipH="1">
            <a:off x="5249520" y="5474880"/>
            <a:ext cx="3124800" cy="391320"/>
          </a:xfrm>
          <a:prstGeom prst="curvedConnector5">
            <a:avLst>
              <a:gd name="adj1" fmla="val -7304"/>
              <a:gd name="adj2" fmla="val 24953"/>
              <a:gd name="adj3" fmla="val -730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96" idx="3"/>
            <a:endCxn id="97" idx="1"/>
          </p:cNvCxnSpPr>
          <p:nvPr/>
        </p:nvCxnSpPr>
        <p:spPr>
          <a:xfrm flipH="1">
            <a:off x="5249520" y="5865840"/>
            <a:ext cx="3124800" cy="381600"/>
          </a:xfrm>
          <a:prstGeom prst="curvedConnector5">
            <a:avLst>
              <a:gd name="adj1" fmla="val -7304"/>
              <a:gd name="adj2" fmla="val 24929"/>
              <a:gd name="adj3" fmla="val -730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859280" y="1268280"/>
            <a:ext cx="3960720" cy="531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TCBDB: B+ Tree Database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876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B+ tree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O(log N) time complexity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page caching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LRU removing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speculative search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stands on hash DB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records pages in hash DB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succeeds time and space efficiency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custom comparison function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prefix/range matching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HGS創英角ﾎﾟｯﾌﾟ体"/>
              </a:rPr>
              <a:t>cursor</a:t>
            </a:r>
            <a:endParaRPr b="0" lang="en-US" sz="32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ﾎﾟｯﾌﾟ体"/>
              </a:rPr>
              <a:t>jump/next/prev</a:t>
            </a:r>
            <a:endParaRPr b="0" lang="en-US" sz="20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003640" y="3645000"/>
            <a:ext cx="304560" cy="804240"/>
            <a:chOff x="5003640" y="3645000"/>
            <a:chExt cx="304560" cy="804240"/>
          </a:xfrm>
        </p:grpSpPr>
        <p:sp>
          <p:nvSpPr>
            <p:cNvPr id="115" name=""/>
            <p:cNvSpPr/>
            <p:nvPr/>
          </p:nvSpPr>
          <p:spPr>
            <a:xfrm>
              <a:off x="5003640" y="3645000"/>
              <a:ext cx="304560" cy="199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03640" y="3844800"/>
              <a:ext cx="304560" cy="20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03640" y="4046400"/>
              <a:ext cx="304560" cy="20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03640" y="4248000"/>
              <a:ext cx="304560" cy="20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5651640" y="3263760"/>
            <a:ext cx="304560" cy="804960"/>
            <a:chOff x="5651640" y="3263760"/>
            <a:chExt cx="304560" cy="804960"/>
          </a:xfrm>
        </p:grpSpPr>
        <p:sp>
          <p:nvSpPr>
            <p:cNvPr id="120" name=""/>
            <p:cNvSpPr/>
            <p:nvPr/>
          </p:nvSpPr>
          <p:spPr>
            <a:xfrm>
              <a:off x="5651640" y="3263760"/>
              <a:ext cx="304560" cy="199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51640" y="3463560"/>
              <a:ext cx="304560" cy="20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651640" y="3665160"/>
              <a:ext cx="304560" cy="20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51640" y="3867120"/>
              <a:ext cx="304560" cy="20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651640" y="4178160"/>
            <a:ext cx="304560" cy="804960"/>
            <a:chOff x="5651640" y="4178160"/>
            <a:chExt cx="304560" cy="804960"/>
          </a:xfrm>
        </p:grpSpPr>
        <p:sp>
          <p:nvSpPr>
            <p:cNvPr id="125" name=""/>
            <p:cNvSpPr/>
            <p:nvPr/>
          </p:nvSpPr>
          <p:spPr>
            <a:xfrm>
              <a:off x="5651640" y="4178160"/>
              <a:ext cx="304560" cy="199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51640" y="4377960"/>
              <a:ext cx="304560" cy="20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51640" y="4579560"/>
              <a:ext cx="304560" cy="20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651640" y="4781520"/>
              <a:ext cx="304560" cy="20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651640" y="5092560"/>
            <a:ext cx="304560" cy="804960"/>
            <a:chOff x="5651640" y="5092560"/>
            <a:chExt cx="304560" cy="804960"/>
          </a:xfrm>
        </p:grpSpPr>
        <p:sp>
          <p:nvSpPr>
            <p:cNvPr id="130" name=""/>
            <p:cNvSpPr/>
            <p:nvPr/>
          </p:nvSpPr>
          <p:spPr>
            <a:xfrm>
              <a:off x="5651640" y="5092560"/>
              <a:ext cx="304560" cy="199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51640" y="5292360"/>
              <a:ext cx="304560" cy="20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651640" y="5493960"/>
              <a:ext cx="304560" cy="20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51640" y="5695920"/>
              <a:ext cx="304560" cy="20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651640" y="2349360"/>
            <a:ext cx="304560" cy="804960"/>
            <a:chOff x="5651640" y="2349360"/>
            <a:chExt cx="304560" cy="804960"/>
          </a:xfrm>
        </p:grpSpPr>
        <p:sp>
          <p:nvSpPr>
            <p:cNvPr id="135" name=""/>
            <p:cNvSpPr/>
            <p:nvPr/>
          </p:nvSpPr>
          <p:spPr>
            <a:xfrm>
              <a:off x="5651640" y="2349360"/>
              <a:ext cx="304560" cy="199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51640" y="2549160"/>
              <a:ext cx="304560" cy="20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51640" y="2750760"/>
              <a:ext cx="304560" cy="20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51640" y="2952720"/>
              <a:ext cx="304560" cy="20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9" name=""/>
          <p:cNvCxnSpPr>
            <a:stCxn id="118" idx="3"/>
            <a:endCxn id="133" idx="1"/>
          </p:cNvCxnSpPr>
          <p:nvPr/>
        </p:nvCxnSpPr>
        <p:spPr>
          <a:xfrm>
            <a:off x="5308200" y="4349520"/>
            <a:ext cx="343800" cy="1448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17" idx="3"/>
            <a:endCxn id="128" idx="1"/>
          </p:cNvCxnSpPr>
          <p:nvPr/>
        </p:nvCxnSpPr>
        <p:spPr>
          <a:xfrm>
            <a:off x="5308200" y="4147920"/>
            <a:ext cx="343800" cy="735120"/>
          </a:xfrm>
          <a:prstGeom prst="curvedConnector5">
            <a:avLst>
              <a:gd name="adj1" fmla="val 50000"/>
              <a:gd name="adj2" fmla="val 49975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16" idx="3"/>
            <a:endCxn id="123" idx="1"/>
          </p:cNvCxnSpPr>
          <p:nvPr/>
        </p:nvCxnSpPr>
        <p:spPr>
          <a:xfrm>
            <a:off x="5308200" y="3946320"/>
            <a:ext cx="343800" cy="226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15" idx="3"/>
            <a:endCxn id="138" idx="1"/>
          </p:cNvCxnSpPr>
          <p:nvPr/>
        </p:nvCxnSpPr>
        <p:spPr>
          <a:xfrm flipV="1">
            <a:off x="5308200" y="3053520"/>
            <a:ext cx="343800" cy="6915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3" name=""/>
          <p:cNvGrpSpPr/>
          <p:nvPr/>
        </p:nvGrpSpPr>
        <p:grpSpPr>
          <a:xfrm>
            <a:off x="6703920" y="5483160"/>
            <a:ext cx="152640" cy="576360"/>
            <a:chOff x="6703920" y="5483160"/>
            <a:chExt cx="152640" cy="576360"/>
          </a:xfrm>
        </p:grpSpPr>
        <p:sp>
          <p:nvSpPr>
            <p:cNvPr id="144" name=""/>
            <p:cNvSpPr/>
            <p:nvPr/>
          </p:nvSpPr>
          <p:spPr>
            <a:xfrm>
              <a:off x="6703920" y="5483160"/>
              <a:ext cx="152640" cy="14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03920" y="5626440"/>
              <a:ext cx="152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03920" y="5770800"/>
              <a:ext cx="152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03920" y="5915160"/>
              <a:ext cx="152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03920" y="4797360"/>
            <a:ext cx="152640" cy="576360"/>
            <a:chOff x="6703920" y="4797360"/>
            <a:chExt cx="152640" cy="576360"/>
          </a:xfrm>
        </p:grpSpPr>
        <p:sp>
          <p:nvSpPr>
            <p:cNvPr id="149" name=""/>
            <p:cNvSpPr/>
            <p:nvPr/>
          </p:nvSpPr>
          <p:spPr>
            <a:xfrm>
              <a:off x="6703920" y="4797360"/>
              <a:ext cx="152640" cy="14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703920" y="4940640"/>
              <a:ext cx="152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03920" y="5085000"/>
              <a:ext cx="152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03920" y="5229360"/>
              <a:ext cx="152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6703920" y="4111560"/>
            <a:ext cx="152640" cy="576360"/>
            <a:chOff x="6703920" y="4111560"/>
            <a:chExt cx="152640" cy="576360"/>
          </a:xfrm>
        </p:grpSpPr>
        <p:sp>
          <p:nvSpPr>
            <p:cNvPr id="154" name=""/>
            <p:cNvSpPr/>
            <p:nvPr/>
          </p:nvSpPr>
          <p:spPr>
            <a:xfrm>
              <a:off x="6703920" y="4111560"/>
              <a:ext cx="152640" cy="14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03920" y="4254840"/>
              <a:ext cx="152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03920" y="4399200"/>
              <a:ext cx="152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03920" y="4543560"/>
              <a:ext cx="152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703920" y="3425760"/>
            <a:ext cx="152640" cy="576360"/>
            <a:chOff x="6703920" y="3425760"/>
            <a:chExt cx="152640" cy="576360"/>
          </a:xfrm>
        </p:grpSpPr>
        <p:sp>
          <p:nvSpPr>
            <p:cNvPr id="159" name=""/>
            <p:cNvSpPr/>
            <p:nvPr/>
          </p:nvSpPr>
          <p:spPr>
            <a:xfrm>
              <a:off x="6703920" y="3425760"/>
              <a:ext cx="152640" cy="14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703920" y="3569040"/>
              <a:ext cx="152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03920" y="3713400"/>
              <a:ext cx="152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703920" y="3857760"/>
              <a:ext cx="152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400800" y="3711600"/>
            <a:ext cx="152280" cy="576360"/>
            <a:chOff x="6400800" y="3711600"/>
            <a:chExt cx="152280" cy="576360"/>
          </a:xfrm>
        </p:grpSpPr>
        <p:sp>
          <p:nvSpPr>
            <p:cNvPr id="164" name=""/>
            <p:cNvSpPr/>
            <p:nvPr/>
          </p:nvSpPr>
          <p:spPr>
            <a:xfrm>
              <a:off x="6400800" y="3711600"/>
              <a:ext cx="152280" cy="14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00800" y="3854880"/>
              <a:ext cx="15228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00800" y="3999240"/>
              <a:ext cx="15228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0800" y="4143600"/>
              <a:ext cx="15228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400800" y="3025800"/>
            <a:ext cx="152280" cy="576360"/>
            <a:chOff x="6400800" y="3025800"/>
            <a:chExt cx="152280" cy="576360"/>
          </a:xfrm>
        </p:grpSpPr>
        <p:sp>
          <p:nvSpPr>
            <p:cNvPr id="169" name=""/>
            <p:cNvSpPr/>
            <p:nvPr/>
          </p:nvSpPr>
          <p:spPr>
            <a:xfrm>
              <a:off x="6400800" y="3025800"/>
              <a:ext cx="152280" cy="14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400800" y="3169080"/>
              <a:ext cx="15228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00800" y="3313440"/>
              <a:ext cx="15228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00800" y="3457800"/>
              <a:ext cx="15228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400800" y="2340000"/>
            <a:ext cx="152280" cy="576360"/>
            <a:chOff x="6400800" y="2340000"/>
            <a:chExt cx="152280" cy="576360"/>
          </a:xfrm>
        </p:grpSpPr>
        <p:sp>
          <p:nvSpPr>
            <p:cNvPr id="174" name=""/>
            <p:cNvSpPr/>
            <p:nvPr/>
          </p:nvSpPr>
          <p:spPr>
            <a:xfrm>
              <a:off x="6400800" y="2340000"/>
              <a:ext cx="152280" cy="14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00800" y="2483280"/>
              <a:ext cx="15228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400800" y="2627640"/>
              <a:ext cx="15228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400800" y="2772000"/>
              <a:ext cx="15228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400800" y="1654200"/>
            <a:ext cx="152280" cy="576360"/>
            <a:chOff x="6400800" y="1654200"/>
            <a:chExt cx="152280" cy="576360"/>
          </a:xfrm>
        </p:grpSpPr>
        <p:sp>
          <p:nvSpPr>
            <p:cNvPr id="179" name=""/>
            <p:cNvSpPr/>
            <p:nvPr/>
          </p:nvSpPr>
          <p:spPr>
            <a:xfrm>
              <a:off x="6400800" y="1654200"/>
              <a:ext cx="152280" cy="14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400800" y="1797480"/>
              <a:ext cx="15228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00800" y="1941840"/>
              <a:ext cx="15228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00800" y="2086200"/>
              <a:ext cx="15228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3" name=""/>
          <p:cNvCxnSpPr>
            <a:stCxn id="133" idx="3"/>
            <a:endCxn id="147" idx="1"/>
          </p:cNvCxnSpPr>
          <p:nvPr/>
        </p:nvCxnSpPr>
        <p:spPr>
          <a:xfrm>
            <a:off x="5955840" y="5797080"/>
            <a:ext cx="748440" cy="191160"/>
          </a:xfrm>
          <a:prstGeom prst="curvedConnector5">
            <a:avLst>
              <a:gd name="adj1" fmla="val 49855"/>
              <a:gd name="adj2" fmla="val 50000"/>
              <a:gd name="adj3" fmla="val 498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32" idx="3"/>
            <a:endCxn id="152" idx="1"/>
          </p:cNvCxnSpPr>
          <p:nvPr/>
        </p:nvCxnSpPr>
        <p:spPr>
          <a:xfrm flipV="1">
            <a:off x="5955840" y="5301720"/>
            <a:ext cx="748440" cy="294480"/>
          </a:xfrm>
          <a:prstGeom prst="curvedConnector5">
            <a:avLst>
              <a:gd name="adj1" fmla="val 49855"/>
              <a:gd name="adj2" fmla="val 49938"/>
              <a:gd name="adj3" fmla="val 498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31" idx="3"/>
            <a:endCxn id="157" idx="1"/>
          </p:cNvCxnSpPr>
          <p:nvPr/>
        </p:nvCxnSpPr>
        <p:spPr>
          <a:xfrm flipV="1">
            <a:off x="5955840" y="4615560"/>
            <a:ext cx="748440" cy="778680"/>
          </a:xfrm>
          <a:prstGeom prst="curvedConnector5">
            <a:avLst>
              <a:gd name="adj1" fmla="val 49855"/>
              <a:gd name="adj2" fmla="val 50000"/>
              <a:gd name="adj3" fmla="val 498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30" idx="3"/>
            <a:endCxn id="162" idx="1"/>
          </p:cNvCxnSpPr>
          <p:nvPr/>
        </p:nvCxnSpPr>
        <p:spPr>
          <a:xfrm flipV="1">
            <a:off x="5955840" y="3930120"/>
            <a:ext cx="748440" cy="1262880"/>
          </a:xfrm>
          <a:prstGeom prst="curvedConnector5">
            <a:avLst>
              <a:gd name="adj1" fmla="val 49855"/>
              <a:gd name="adj2" fmla="val 49985"/>
              <a:gd name="adj3" fmla="val 498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28" idx="3"/>
            <a:endCxn id="167" idx="1"/>
          </p:cNvCxnSpPr>
          <p:nvPr/>
        </p:nvCxnSpPr>
        <p:spPr>
          <a:xfrm flipV="1">
            <a:off x="5955840" y="4215960"/>
            <a:ext cx="445320" cy="667440"/>
          </a:xfrm>
          <a:prstGeom prst="curvedConnector5">
            <a:avLst>
              <a:gd name="adj1" fmla="val 50000"/>
              <a:gd name="adj2" fmla="val 49973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27" idx="3"/>
            <a:endCxn id="172" idx="1"/>
          </p:cNvCxnSpPr>
          <p:nvPr/>
        </p:nvCxnSpPr>
        <p:spPr>
          <a:xfrm flipV="1">
            <a:off x="5955840" y="3529800"/>
            <a:ext cx="445320" cy="1151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26" idx="3"/>
            <a:endCxn id="177" idx="1"/>
          </p:cNvCxnSpPr>
          <p:nvPr/>
        </p:nvCxnSpPr>
        <p:spPr>
          <a:xfrm flipV="1">
            <a:off x="5955840" y="2844360"/>
            <a:ext cx="445320" cy="1635840"/>
          </a:xfrm>
          <a:prstGeom prst="curvedConnector5">
            <a:avLst>
              <a:gd name="adj1" fmla="val 50000"/>
              <a:gd name="adj2" fmla="val 49988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25" idx="3"/>
            <a:endCxn id="182" idx="1"/>
          </p:cNvCxnSpPr>
          <p:nvPr/>
        </p:nvCxnSpPr>
        <p:spPr>
          <a:xfrm flipV="1">
            <a:off x="5955840" y="2158200"/>
            <a:ext cx="445320" cy="21200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7236000" y="400536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921800" y="4005360"/>
            <a:ext cx="7920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36000" y="430992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921800" y="4309920"/>
            <a:ext cx="792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236000" y="46148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21800" y="4614840"/>
            <a:ext cx="792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36000" y="491976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921800" y="4919760"/>
            <a:ext cx="7920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36000" y="53006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921800" y="5300640"/>
            <a:ext cx="792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36000" y="560556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21800" y="5605560"/>
            <a:ext cx="7920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236000" y="591012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921800" y="5910120"/>
            <a:ext cx="792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236000" y="62150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921800" y="6215040"/>
            <a:ext cx="792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"/>
          <p:cNvCxnSpPr>
            <a:stCxn id="147" idx="3"/>
            <a:endCxn id="205" idx="1"/>
          </p:cNvCxnSpPr>
          <p:nvPr/>
        </p:nvCxnSpPr>
        <p:spPr>
          <a:xfrm>
            <a:off x="6856560" y="5987880"/>
            <a:ext cx="380160" cy="380160"/>
          </a:xfrm>
          <a:prstGeom prst="curvedConnector5">
            <a:avLst>
              <a:gd name="adj1" fmla="val 49763"/>
              <a:gd name="adj2" fmla="val 49952"/>
              <a:gd name="adj3" fmla="val 497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146" idx="3"/>
            <a:endCxn id="197" idx="1"/>
          </p:cNvCxnSpPr>
          <p:nvPr/>
        </p:nvCxnSpPr>
        <p:spPr>
          <a:xfrm flipV="1">
            <a:off x="6856560" y="5071320"/>
            <a:ext cx="380160" cy="772200"/>
          </a:xfrm>
          <a:prstGeom prst="curvedConnector5">
            <a:avLst>
              <a:gd name="adj1" fmla="val 49763"/>
              <a:gd name="adj2" fmla="val 50000"/>
              <a:gd name="adj3" fmla="val 497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"/>
          <p:cNvSpPr/>
          <p:nvPr/>
        </p:nvSpPr>
        <p:spPr>
          <a:xfrm>
            <a:off x="7236000" y="270972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921800" y="2709720"/>
            <a:ext cx="792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236000" y="30146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921800" y="3014640"/>
            <a:ext cx="792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236000" y="331956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921800" y="3319560"/>
            <a:ext cx="7920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236000" y="362412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921800" y="3624120"/>
            <a:ext cx="792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145" idx="3"/>
            <a:endCxn id="215" idx="1"/>
          </p:cNvCxnSpPr>
          <p:nvPr/>
        </p:nvCxnSpPr>
        <p:spPr>
          <a:xfrm flipV="1">
            <a:off x="6856560" y="3776400"/>
            <a:ext cx="380160" cy="1923120"/>
          </a:xfrm>
          <a:prstGeom prst="curvedConnector5">
            <a:avLst>
              <a:gd name="adj1" fmla="val 49763"/>
              <a:gd name="adj2" fmla="val 49990"/>
              <a:gd name="adj3" fmla="val 497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7236000" y="14144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921800" y="1414440"/>
            <a:ext cx="792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236000" y="171936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21800" y="1719360"/>
            <a:ext cx="7920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236000" y="202392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921800" y="2023920"/>
            <a:ext cx="792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36000" y="23288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921800" y="2328840"/>
            <a:ext cx="792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"/>
          <p:cNvCxnSpPr>
            <a:stCxn id="144" idx="3"/>
            <a:endCxn id="224" idx="1"/>
          </p:cNvCxnSpPr>
          <p:nvPr/>
        </p:nvCxnSpPr>
        <p:spPr>
          <a:xfrm flipV="1">
            <a:off x="6856560" y="2480760"/>
            <a:ext cx="380160" cy="3074400"/>
          </a:xfrm>
          <a:prstGeom prst="curvedConnector5">
            <a:avLst>
              <a:gd name="adj1" fmla="val 49763"/>
              <a:gd name="adj2" fmla="val 49994"/>
              <a:gd name="adj3" fmla="val 497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"/>
          <p:cNvSpPr/>
          <p:nvPr/>
        </p:nvSpPr>
        <p:spPr>
          <a:xfrm>
            <a:off x="4934880" y="177336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tree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HGS創英角ﾎﾟｯﾌﾟ体"/>
              </a:rPr>
              <a:t>TCFDB: Fixed-length Database</a:t>
            </a:r>
            <a:endParaRPr b="0" lang="en-US" sz="45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876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array of fixed-length elements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O(1) time complexity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natural number keys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addresses records by multiple of key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66"/>
                </a:solidFill>
                <a:latin typeface="HGS創英角ﾎﾟｯﾌﾟ体"/>
              </a:rPr>
              <a:t>most effective</a:t>
            </a:r>
            <a:endParaRPr b="0" lang="en-US" sz="36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bulk load by mmap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no key storage per record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S創英角ﾎﾟｯﾌﾟ体"/>
              </a:rPr>
              <a:t>extremely fast and concurrent</a:t>
            </a:r>
            <a:endParaRPr b="0" lang="en-US" sz="24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230" name=""/>
          <p:cNvSpPr/>
          <p:nvPr/>
        </p:nvSpPr>
        <p:spPr>
          <a:xfrm>
            <a:off x="4859280" y="2133720"/>
            <a:ext cx="4105440" cy="417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075280" y="256536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012000" y="256536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48360" y="2565360"/>
            <a:ext cx="86544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883640" y="256536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75280" y="292572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2000" y="292572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948360" y="2925720"/>
            <a:ext cx="86544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883640" y="292572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75280" y="328608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12000" y="328608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948360" y="3286080"/>
            <a:ext cx="86544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883640" y="328608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5280" y="364500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12000" y="364500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948360" y="3645000"/>
            <a:ext cx="86544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883640" y="364500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075280" y="400536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12000" y="400536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8360" y="4005360"/>
            <a:ext cx="86544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883640" y="400536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075280" y="436572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12000" y="436572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48360" y="4365720"/>
            <a:ext cx="86544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883640" y="436572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075280" y="472608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12000" y="472608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948360" y="4726080"/>
            <a:ext cx="86544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883640" y="472608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75280" y="508644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012000" y="508644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48360" y="5086440"/>
            <a:ext cx="86544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883640" y="5086440"/>
            <a:ext cx="865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075280" y="544500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12000" y="544500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48360" y="5445000"/>
            <a:ext cx="86544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883640" y="544500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075280" y="580536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12000" y="580536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948360" y="5805360"/>
            <a:ext cx="86544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883640" y="5805360"/>
            <a:ext cx="865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03640" y="220680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HGS創英角ﾎﾟｯﾌﾟ体"/>
              </a:rPr>
              <a:t>TCTDB: Table Database</a:t>
            </a:r>
            <a:endParaRPr b="0" lang="en-US" sz="49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876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HGS創英角ﾎﾟｯﾌﾟ体"/>
              </a:rPr>
              <a:t>column based</a:t>
            </a:r>
            <a:endParaRPr b="0" lang="en-US" sz="28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GS創英角ﾎﾟｯﾌﾟ体"/>
              </a:rPr>
              <a:t>the primary key and named columns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GS創英角ﾎﾟｯﾌﾟ体"/>
              </a:rPr>
              <a:t>stands on hash DB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HGS創英角ﾎﾟｯﾌﾟ体"/>
              </a:rPr>
              <a:t>flexible structure</a:t>
            </a:r>
            <a:endParaRPr b="0" lang="en-US" sz="28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GS創英角ﾎﾟｯﾌﾟ体"/>
              </a:rPr>
              <a:t>no data scheme, no data type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GS創英角ﾎﾟｯﾌﾟ体"/>
              </a:rPr>
              <a:t>various structure for each record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HGS創英角ﾎﾟｯﾌﾟ体"/>
              </a:rPr>
              <a:t>query mechanism</a:t>
            </a:r>
            <a:endParaRPr b="0" lang="en-US" sz="28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GS創英角ﾎﾟｯﾌﾟ体"/>
              </a:rPr>
              <a:t>various operators matching column values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GS創英角ﾎﾟｯﾌﾟ体"/>
              </a:rPr>
              <a:t>lexical/decimal orders by column values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HGS創英角ﾎﾟｯﾌﾟ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HGS創英角ﾎﾟｯﾌﾟ体"/>
              </a:rPr>
              <a:t>column indexes</a:t>
            </a:r>
            <a:endParaRPr b="0" lang="en-US" sz="2800" spc="-1" strike="noStrike">
              <a:solidFill>
                <a:srgbClr val="ffff66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GS創英角ﾎﾟｯﾌﾟ体"/>
              </a:rPr>
              <a:t>implemented with B+ tree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GS創英角ﾎﾟｯﾌﾟ体"/>
              </a:rPr>
              <a:t>typed as string/number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GS創英角ﾎﾟｯﾌﾟ体"/>
              </a:rPr>
              <a:t>effective search by query optimizer</a:t>
            </a:r>
            <a:endParaRPr b="0" lang="en-US" sz="1800" spc="-1" strike="noStrike">
              <a:solidFill>
                <a:srgbClr val="ffffff"/>
              </a:solidFill>
              <a:latin typeface="HGS創英角ﾎﾟｯﾌﾟ体"/>
            </a:endParaRPr>
          </a:p>
        </p:txBody>
      </p:sp>
      <p:sp>
        <p:nvSpPr>
          <p:cNvPr id="274" name=""/>
          <p:cNvSpPr/>
          <p:nvPr/>
        </p:nvSpPr>
        <p:spPr>
          <a:xfrm>
            <a:off x="4859280" y="1989000"/>
            <a:ext cx="4105440" cy="431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4952880" y="2709720"/>
            <a:ext cx="3927600" cy="414360"/>
            <a:chOff x="4952880" y="2709720"/>
            <a:chExt cx="3927600" cy="414360"/>
          </a:xfrm>
        </p:grpSpPr>
        <p:sp>
          <p:nvSpPr>
            <p:cNvPr id="276" name=""/>
            <p:cNvSpPr/>
            <p:nvPr/>
          </p:nvSpPr>
          <p:spPr>
            <a:xfrm>
              <a:off x="4952880" y="2709720"/>
              <a:ext cx="990720" cy="414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imary ke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95880" y="2709720"/>
              <a:ext cx="2784600" cy="414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6132600" y="2742840"/>
              <a:ext cx="871560" cy="338040"/>
              <a:chOff x="6132600" y="2742840"/>
              <a:chExt cx="871560" cy="338040"/>
            </a:xfrm>
          </p:grpSpPr>
          <p:sp>
            <p:nvSpPr>
              <p:cNvPr id="279" name=""/>
              <p:cNvSpPr/>
              <p:nvPr/>
            </p:nvSpPr>
            <p:spPr>
              <a:xfrm>
                <a:off x="6132600" y="274284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546960" y="274284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7047000" y="2742840"/>
              <a:ext cx="871560" cy="338040"/>
              <a:chOff x="7047000" y="2742840"/>
              <a:chExt cx="871560" cy="338040"/>
            </a:xfrm>
          </p:grpSpPr>
          <p:sp>
            <p:nvSpPr>
              <p:cNvPr id="282" name=""/>
              <p:cNvSpPr/>
              <p:nvPr/>
            </p:nvSpPr>
            <p:spPr>
              <a:xfrm>
                <a:off x="7047000" y="274284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461360" y="274284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7961400" y="2742840"/>
              <a:ext cx="871560" cy="338040"/>
              <a:chOff x="7961400" y="2742840"/>
              <a:chExt cx="871560" cy="338040"/>
            </a:xfrm>
          </p:grpSpPr>
          <p:sp>
            <p:nvSpPr>
              <p:cNvPr id="285" name=""/>
              <p:cNvSpPr/>
              <p:nvPr/>
            </p:nvSpPr>
            <p:spPr>
              <a:xfrm>
                <a:off x="7961400" y="274284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375760" y="274284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7" name=""/>
          <p:cNvGrpSpPr/>
          <p:nvPr/>
        </p:nvGrpSpPr>
        <p:grpSpPr>
          <a:xfrm>
            <a:off x="4952880" y="3243240"/>
            <a:ext cx="3927600" cy="414360"/>
            <a:chOff x="4952880" y="3243240"/>
            <a:chExt cx="3927600" cy="414360"/>
          </a:xfrm>
        </p:grpSpPr>
        <p:sp>
          <p:nvSpPr>
            <p:cNvPr id="288" name=""/>
            <p:cNvSpPr/>
            <p:nvPr/>
          </p:nvSpPr>
          <p:spPr>
            <a:xfrm>
              <a:off x="4952880" y="3243240"/>
              <a:ext cx="990720" cy="414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imary ke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95880" y="3243240"/>
              <a:ext cx="2784600" cy="414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6132600" y="3276360"/>
              <a:ext cx="871560" cy="338040"/>
              <a:chOff x="6132600" y="3276360"/>
              <a:chExt cx="871560" cy="338040"/>
            </a:xfrm>
          </p:grpSpPr>
          <p:sp>
            <p:nvSpPr>
              <p:cNvPr id="291" name=""/>
              <p:cNvSpPr/>
              <p:nvPr/>
            </p:nvSpPr>
            <p:spPr>
              <a:xfrm>
                <a:off x="6132600" y="327636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546960" y="327636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7047000" y="3276360"/>
              <a:ext cx="871560" cy="338040"/>
              <a:chOff x="7047000" y="3276360"/>
              <a:chExt cx="871560" cy="338040"/>
            </a:xfrm>
          </p:grpSpPr>
          <p:sp>
            <p:nvSpPr>
              <p:cNvPr id="294" name=""/>
              <p:cNvSpPr/>
              <p:nvPr/>
            </p:nvSpPr>
            <p:spPr>
              <a:xfrm>
                <a:off x="7047000" y="327636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461360" y="327636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7961400" y="3276360"/>
              <a:ext cx="871560" cy="338040"/>
              <a:chOff x="7961400" y="3276360"/>
              <a:chExt cx="871560" cy="338040"/>
            </a:xfrm>
          </p:grpSpPr>
          <p:sp>
            <p:nvSpPr>
              <p:cNvPr id="297" name=""/>
              <p:cNvSpPr/>
              <p:nvPr/>
            </p:nvSpPr>
            <p:spPr>
              <a:xfrm>
                <a:off x="7961400" y="327636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375760" y="327636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9" name=""/>
          <p:cNvGrpSpPr/>
          <p:nvPr/>
        </p:nvGrpSpPr>
        <p:grpSpPr>
          <a:xfrm>
            <a:off x="4952880" y="3776760"/>
            <a:ext cx="3927600" cy="414360"/>
            <a:chOff x="4952880" y="3776760"/>
            <a:chExt cx="3927600" cy="414360"/>
          </a:xfrm>
        </p:grpSpPr>
        <p:sp>
          <p:nvSpPr>
            <p:cNvPr id="300" name=""/>
            <p:cNvSpPr/>
            <p:nvPr/>
          </p:nvSpPr>
          <p:spPr>
            <a:xfrm>
              <a:off x="4952880" y="3776760"/>
              <a:ext cx="990720" cy="414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imary ke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095880" y="3776760"/>
              <a:ext cx="2784600" cy="414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6132600" y="3809880"/>
              <a:ext cx="871560" cy="338040"/>
              <a:chOff x="6132600" y="3809880"/>
              <a:chExt cx="871560" cy="338040"/>
            </a:xfrm>
          </p:grpSpPr>
          <p:sp>
            <p:nvSpPr>
              <p:cNvPr id="303" name=""/>
              <p:cNvSpPr/>
              <p:nvPr/>
            </p:nvSpPr>
            <p:spPr>
              <a:xfrm>
                <a:off x="6132600" y="380988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546960" y="380988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7047000" y="3809880"/>
              <a:ext cx="871560" cy="338040"/>
              <a:chOff x="7047000" y="3809880"/>
              <a:chExt cx="871560" cy="338040"/>
            </a:xfrm>
          </p:grpSpPr>
          <p:sp>
            <p:nvSpPr>
              <p:cNvPr id="306" name=""/>
              <p:cNvSpPr/>
              <p:nvPr/>
            </p:nvSpPr>
            <p:spPr>
              <a:xfrm>
                <a:off x="7047000" y="380988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461360" y="380988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961400" y="3809880"/>
              <a:ext cx="871560" cy="338040"/>
              <a:chOff x="7961400" y="3809880"/>
              <a:chExt cx="871560" cy="338040"/>
            </a:xfrm>
          </p:grpSpPr>
          <p:sp>
            <p:nvSpPr>
              <p:cNvPr id="309" name=""/>
              <p:cNvSpPr/>
              <p:nvPr/>
            </p:nvSpPr>
            <p:spPr>
              <a:xfrm>
                <a:off x="7961400" y="380988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8375760" y="380988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1" name=""/>
          <p:cNvGrpSpPr/>
          <p:nvPr/>
        </p:nvGrpSpPr>
        <p:grpSpPr>
          <a:xfrm>
            <a:off x="4952880" y="4309920"/>
            <a:ext cx="3927600" cy="414360"/>
            <a:chOff x="4952880" y="4309920"/>
            <a:chExt cx="3927600" cy="414360"/>
          </a:xfrm>
        </p:grpSpPr>
        <p:sp>
          <p:nvSpPr>
            <p:cNvPr id="312" name=""/>
            <p:cNvSpPr/>
            <p:nvPr/>
          </p:nvSpPr>
          <p:spPr>
            <a:xfrm>
              <a:off x="4952880" y="4309920"/>
              <a:ext cx="990720" cy="414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imary ke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5880" y="4309920"/>
              <a:ext cx="2784600" cy="414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6132600" y="4343040"/>
              <a:ext cx="871560" cy="338040"/>
              <a:chOff x="6132600" y="4343040"/>
              <a:chExt cx="871560" cy="338040"/>
            </a:xfrm>
          </p:grpSpPr>
          <p:sp>
            <p:nvSpPr>
              <p:cNvPr id="315" name=""/>
              <p:cNvSpPr/>
              <p:nvPr/>
            </p:nvSpPr>
            <p:spPr>
              <a:xfrm>
                <a:off x="6132600" y="434304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546960" y="434304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7047000" y="4343040"/>
              <a:ext cx="871560" cy="338040"/>
              <a:chOff x="7047000" y="4343040"/>
              <a:chExt cx="871560" cy="338040"/>
            </a:xfrm>
          </p:grpSpPr>
          <p:sp>
            <p:nvSpPr>
              <p:cNvPr id="318" name=""/>
              <p:cNvSpPr/>
              <p:nvPr/>
            </p:nvSpPr>
            <p:spPr>
              <a:xfrm>
                <a:off x="7047000" y="434304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461360" y="434304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961400" y="4343040"/>
              <a:ext cx="871560" cy="338040"/>
              <a:chOff x="7961400" y="4343040"/>
              <a:chExt cx="871560" cy="338040"/>
            </a:xfrm>
          </p:grpSpPr>
          <p:sp>
            <p:nvSpPr>
              <p:cNvPr id="321" name=""/>
              <p:cNvSpPr/>
              <p:nvPr/>
            </p:nvSpPr>
            <p:spPr>
              <a:xfrm>
                <a:off x="7961400" y="434304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375760" y="434304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3" name=""/>
          <p:cNvGrpSpPr/>
          <p:nvPr/>
        </p:nvGrpSpPr>
        <p:grpSpPr>
          <a:xfrm>
            <a:off x="4952880" y="4843440"/>
            <a:ext cx="3927600" cy="414360"/>
            <a:chOff x="4952880" y="4843440"/>
            <a:chExt cx="3927600" cy="414360"/>
          </a:xfrm>
        </p:grpSpPr>
        <p:sp>
          <p:nvSpPr>
            <p:cNvPr id="324" name=""/>
            <p:cNvSpPr/>
            <p:nvPr/>
          </p:nvSpPr>
          <p:spPr>
            <a:xfrm>
              <a:off x="4952880" y="4843440"/>
              <a:ext cx="990720" cy="414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imary ke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843440"/>
              <a:ext cx="2784600" cy="414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6132600" y="4876560"/>
              <a:ext cx="871560" cy="338040"/>
              <a:chOff x="6132600" y="4876560"/>
              <a:chExt cx="871560" cy="338040"/>
            </a:xfrm>
          </p:grpSpPr>
          <p:sp>
            <p:nvSpPr>
              <p:cNvPr id="327" name=""/>
              <p:cNvSpPr/>
              <p:nvPr/>
            </p:nvSpPr>
            <p:spPr>
              <a:xfrm>
                <a:off x="6132600" y="487656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546960" y="487656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7047000" y="4876560"/>
              <a:ext cx="871560" cy="338040"/>
              <a:chOff x="7047000" y="4876560"/>
              <a:chExt cx="871560" cy="338040"/>
            </a:xfrm>
          </p:grpSpPr>
          <p:sp>
            <p:nvSpPr>
              <p:cNvPr id="330" name=""/>
              <p:cNvSpPr/>
              <p:nvPr/>
            </p:nvSpPr>
            <p:spPr>
              <a:xfrm>
                <a:off x="7047000" y="487656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461360" y="487656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7961400" y="4876560"/>
              <a:ext cx="871560" cy="338040"/>
              <a:chOff x="7961400" y="4876560"/>
              <a:chExt cx="871560" cy="338040"/>
            </a:xfrm>
          </p:grpSpPr>
          <p:sp>
            <p:nvSpPr>
              <p:cNvPr id="333" name=""/>
              <p:cNvSpPr/>
              <p:nvPr/>
            </p:nvSpPr>
            <p:spPr>
              <a:xfrm>
                <a:off x="7961400" y="487656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8375760" y="487656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5" name=""/>
          <p:cNvGrpSpPr/>
          <p:nvPr/>
        </p:nvGrpSpPr>
        <p:grpSpPr>
          <a:xfrm>
            <a:off x="4952880" y="5376960"/>
            <a:ext cx="3927600" cy="414360"/>
            <a:chOff x="4952880" y="5376960"/>
            <a:chExt cx="3927600" cy="414360"/>
          </a:xfrm>
        </p:grpSpPr>
        <p:sp>
          <p:nvSpPr>
            <p:cNvPr id="336" name=""/>
            <p:cNvSpPr/>
            <p:nvPr/>
          </p:nvSpPr>
          <p:spPr>
            <a:xfrm>
              <a:off x="4952880" y="5376960"/>
              <a:ext cx="990720" cy="414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imary ke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095880" y="5376960"/>
              <a:ext cx="2784600" cy="414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6132600" y="5410080"/>
              <a:ext cx="871560" cy="338040"/>
              <a:chOff x="6132600" y="5410080"/>
              <a:chExt cx="871560" cy="338040"/>
            </a:xfrm>
          </p:grpSpPr>
          <p:sp>
            <p:nvSpPr>
              <p:cNvPr id="339" name=""/>
              <p:cNvSpPr/>
              <p:nvPr/>
            </p:nvSpPr>
            <p:spPr>
              <a:xfrm>
                <a:off x="6132600" y="541008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46960" y="541008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7047000" y="5410080"/>
              <a:ext cx="871560" cy="338040"/>
              <a:chOff x="7047000" y="5410080"/>
              <a:chExt cx="871560" cy="338040"/>
            </a:xfrm>
          </p:grpSpPr>
          <p:sp>
            <p:nvSpPr>
              <p:cNvPr id="342" name=""/>
              <p:cNvSpPr/>
              <p:nvPr/>
            </p:nvSpPr>
            <p:spPr>
              <a:xfrm>
                <a:off x="7047000" y="541008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461360" y="541008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7961400" y="5410080"/>
              <a:ext cx="871560" cy="338040"/>
              <a:chOff x="7961400" y="5410080"/>
              <a:chExt cx="871560" cy="338040"/>
            </a:xfrm>
          </p:grpSpPr>
          <p:sp>
            <p:nvSpPr>
              <p:cNvPr id="345" name=""/>
              <p:cNvSpPr/>
              <p:nvPr/>
            </p:nvSpPr>
            <p:spPr>
              <a:xfrm>
                <a:off x="7961400" y="5410080"/>
                <a:ext cx="41292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8375760" y="5410080"/>
                <a:ext cx="457200" cy="338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7" name=""/>
          <p:cNvSpPr/>
          <p:nvPr/>
        </p:nvSpPr>
        <p:spPr>
          <a:xfrm>
            <a:off x="5000760" y="2205000"/>
            <a:ext cx="1522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153040" y="2205000"/>
            <a:ext cx="1522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05320" y="2205000"/>
            <a:ext cx="15264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57960" y="2205000"/>
            <a:ext cx="1522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610240" y="2205000"/>
            <a:ext cx="1522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762520" y="2205000"/>
            <a:ext cx="15264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915160" y="2205000"/>
            <a:ext cx="1522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67440" y="2205000"/>
            <a:ext cx="1522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19720" y="2205000"/>
            <a:ext cx="15264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372360" y="2205000"/>
            <a:ext cx="1522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524640" y="2205000"/>
            <a:ext cx="1522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676920" y="2205000"/>
            <a:ext cx="15264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829560" y="2205000"/>
            <a:ext cx="1522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981840" y="2205000"/>
            <a:ext cx="1522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134120" y="2205000"/>
            <a:ext cx="15264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286760" y="2205000"/>
            <a:ext cx="1522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439040" y="2205000"/>
            <a:ext cx="1522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591320" y="2205000"/>
            <a:ext cx="15264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008480" y="598644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umn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35840" y="2633760"/>
            <a:ext cx="903240" cy="3352680"/>
          </a:xfrm>
          <a:custGeom>
            <a:avLst/>
            <a:gdLst>
              <a:gd name="textAreaLeft" fmla="*/ 43920 w 903240"/>
              <a:gd name="textAreaRight" fmla="*/ 859320 w 903240"/>
              <a:gd name="textAreaTop" fmla="*/ 43920 h 3352680"/>
              <a:gd name="textAreaBottom" fmla="*/ 3308760 h 3352680"/>
            </a:gdLst>
            <a:ahLst/>
            <a:rect l="textAreaLeft" t="textAreaTop" r="textAreaRight" b="textAreaBottom"/>
            <a:pathLst>
              <a:path w="21600" h="80152">
                <a:moveTo>
                  <a:pt x="3600" y="0"/>
                </a:moveTo>
                <a:arcTo wR="3600" hR="3600" stAng="16200000" swAng="-5400000"/>
                <a:lnTo>
                  <a:pt x="0" y="76552"/>
                </a:lnTo>
                <a:arcTo wR="3600" hR="3600" stAng="10800000" swAng="-5400000"/>
                <a:lnTo>
                  <a:pt x="18000" y="80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709040" y="21240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cket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8" name=""/>
          <p:cNvCxnSpPr>
            <a:stCxn id="350" idx="2"/>
            <a:endCxn id="276" idx="0"/>
          </p:cNvCxnSpPr>
          <p:nvPr/>
        </p:nvCxnSpPr>
        <p:spPr>
          <a:xfrm rot="5400000">
            <a:off x="5352480" y="2528640"/>
            <a:ext cx="276840" cy="86400"/>
          </a:xfrm>
          <a:prstGeom prst="curvedConnector5">
            <a:avLst>
              <a:gd name="adj1" fmla="val 50000"/>
              <a:gd name="adj2" fmla="val 4979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9" name=""/>
          <p:cNvCxnSpPr>
            <a:stCxn id="356" idx="2"/>
            <a:endCxn id="312" idx="0"/>
          </p:cNvCxnSpPr>
          <p:nvPr/>
        </p:nvCxnSpPr>
        <p:spPr>
          <a:xfrm rot="5400000">
            <a:off x="5009400" y="2871720"/>
            <a:ext cx="1877040" cy="1000800"/>
          </a:xfrm>
          <a:prstGeom prst="curvedConnector5">
            <a:avLst>
              <a:gd name="adj1" fmla="val 49990"/>
              <a:gd name="adj2" fmla="val 49982"/>
              <a:gd name="adj3" fmla="val 499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0" name=""/>
          <p:cNvCxnSpPr>
            <a:stCxn id="353" idx="2"/>
            <a:endCxn id="336" idx="0"/>
          </p:cNvCxnSpPr>
          <p:nvPr/>
        </p:nvCxnSpPr>
        <p:spPr>
          <a:xfrm rot="5400000">
            <a:off x="4247280" y="3633840"/>
            <a:ext cx="2944080" cy="543600"/>
          </a:xfrm>
          <a:prstGeom prst="curvedConnector5">
            <a:avLst>
              <a:gd name="adj1" fmla="val 49993"/>
              <a:gd name="adj2" fmla="val 49966"/>
              <a:gd name="adj3" fmla="val 499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0" idx="2"/>
            <a:endCxn id="288" idx="0"/>
          </p:cNvCxnSpPr>
          <p:nvPr/>
        </p:nvCxnSpPr>
        <p:spPr>
          <a:xfrm rot="5400000">
            <a:off x="5847840" y="2033280"/>
            <a:ext cx="810360" cy="1610640"/>
          </a:xfrm>
          <a:prstGeom prst="curvedConnector5">
            <a:avLst>
              <a:gd name="adj1" fmla="val 50000"/>
              <a:gd name="adj2" fmla="val 49988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"/>
          <p:cNvCxnSpPr>
            <a:stCxn id="358" idx="2"/>
            <a:endCxn id="324" idx="0"/>
          </p:cNvCxnSpPr>
          <p:nvPr/>
        </p:nvCxnSpPr>
        <p:spPr>
          <a:xfrm rot="5400000">
            <a:off x="4894920" y="2985840"/>
            <a:ext cx="2410560" cy="1305720"/>
          </a:xfrm>
          <a:prstGeom prst="curvedConnector5">
            <a:avLst>
              <a:gd name="adj1" fmla="val 49992"/>
              <a:gd name="adj2" fmla="val 50000"/>
              <a:gd name="adj3" fmla="val 499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"/>
          <p:cNvCxnSpPr>
            <a:stCxn id="355" idx="2"/>
            <a:endCxn id="300" idx="0"/>
          </p:cNvCxnSpPr>
          <p:nvPr/>
        </p:nvCxnSpPr>
        <p:spPr>
          <a:xfrm rot="5400000">
            <a:off x="5199840" y="2680920"/>
            <a:ext cx="1343880" cy="848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08:08:37Z</dcterms:created>
  <dc:creator>hirabayashi</dc:creator>
  <dc:description/>
  <dc:language>en-US</dc:language>
  <cp:lastModifiedBy>hirabayashi</cp:lastModifiedBy>
  <dcterms:modified xsi:type="dcterms:W3CDTF">2009-05-18T02:26:54Z</dcterms:modified>
  <cp:revision>58</cp:revision>
  <dc:subject/>
  <dc:title>Tokyo Products</dc:title>
</cp:coreProperties>
</file>