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872E3-8B95-4B7E-8D5B-F9D969B03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8CEF1-2478-43A4-BA60-048BD2F1B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8F51D-DD40-40BA-860F-0598C6447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586E7-A3FC-4B28-B8EA-86629DECA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ADDE7-F191-4578-AC37-FDF29CE39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FD53A-972C-4CB5-B0E0-7555AEAF8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01469-D71A-4522-A435-9248AA213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62B67-2ACB-4141-AB38-7E4980ACD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49006-BF65-469A-983C-0201D726A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D01BD-80D7-4A16-A999-B3E90D974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4CFA1-CC0B-406B-960C-73764FF04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A9BE4-4CD7-4DFE-B8F4-8D09A32E1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60215-2522-427D-ACEF-878697E84B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66680" y="700200"/>
            <a:ext cx="7391520" cy="5400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820800" y="189000"/>
            <a:ext cx="1008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ource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500120" y="380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32080" y="1260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ilter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752480" y="2286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424240" y="184320"/>
            <a:ext cx="1157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971800" y="388800"/>
            <a:ext cx="0" cy="525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624120" y="184320"/>
            <a:ext cx="1024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ar Char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038480" y="3808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391520" y="184320"/>
            <a:ext cx="1600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View Configuration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029440" y="380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534520" y="1949400"/>
            <a:ext cx="609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D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7695720" y="20574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00" y="7300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oad/Save Data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61840" y="990720"/>
            <a:ext cx="246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00" y="1174680"/>
            <a:ext cx="914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on Filters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1295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320" y="1568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ipeline Brows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46200" y="17524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6320" y="32446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bject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3429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6320" y="48448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62120" y="50292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76720" y="6400800"/>
            <a:ext cx="1143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preadshee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809880" y="5714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629400" y="6400800"/>
            <a:ext cx="1066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XY Plo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7010280" y="563832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3T18:26:05Z</dcterms:created>
  <dc:creator> Amy Squillacote</dc:creator>
  <dc:description/>
  <dc:language>en-US</dc:language>
  <cp:lastModifiedBy> Amy Squillacote</cp:lastModifiedBy>
  <dcterms:modified xsi:type="dcterms:W3CDTF">2007-08-23T18:58:56Z</dcterms:modified>
  <cp:revision>2</cp:revision>
  <dc:subject/>
  <dc:title>Slide 1</dc:title>
</cp:coreProperties>
</file>