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5F0E2-118F-4FD7-951D-535D640FA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638CB-943A-4BA3-8DC5-F120BF6BA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EF335-8B5E-46FE-9521-88C648573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14F76-B7E6-4CEE-A22A-915FDF4CD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2AB27-AA2E-4D59-B17B-5F8E27051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2330A-D838-4AD3-BC76-D88126552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E5B21-8B17-468E-9B6F-B9B2DE4EB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72E08-7871-468C-8EA5-408E5FA52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471E8-7450-4EE6-B1A3-FF10A1B02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F112F-2FC2-46B7-A24B-B3D854366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2C255-522D-42CA-A7FB-01B108EAB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76878-A02A-457F-872C-7D0C7F556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4FA3F-BEC3-431E-B6DF-37C523B234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295280"/>
            <a:ext cx="3733920" cy="685800"/>
          </a:xfrm>
          <a:prstGeom prst="cloudCallout">
            <a:avLst>
              <a:gd name="adj1" fmla="val -38902"/>
              <a:gd name="adj2" fmla="val 1608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2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537000" y="4713120"/>
            <a:ext cx="3581280" cy="48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 reci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4-11-07T16:47:07Z</dcterms:modified>
  <cp:revision>43</cp:revision>
  <dc:subject/>
  <dc:title>PowerPoint Presentation</dc:title>
</cp:coreProperties>
</file>