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3996B-5B23-4590-A188-93FEE7EB7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55679-BB86-4EED-9BAA-BA05FBD7D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4FA0B-0365-4635-A95A-8D61E08F6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20DD7-46DF-43D1-91ED-A11B6C977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78E75-C72B-43CD-B057-8C6CF5E7B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0C9C2-1929-4F4A-AC84-6707636EB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E0A05-FE27-4710-9CAA-B41A20DEA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3046E-9F66-4AC4-8165-93E08544B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8B595-780F-45F3-A458-19C454A10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EFA54-4118-4479-999E-9C910E2DF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DF69B-7B6A-4EE2-B87A-1B54B2ED3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03227-8A6E-446F-B971-36B61269C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924B4-824A-4A5A-9E76-0139EF89C8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Symbol"/>
                <a:ea typeface="Symbol"/>
              </a:rPr>
              <a:t>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Symbol, Club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  <a:ea typeface="Arial"/>
              </a:rPr>
              <a:t>►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‘Normal’, Play arrow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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MT Sorts, 5 point sta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Wingdings, Smiley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8T10:46:03Z</dcterms:created>
  <dc:creator>Michael</dc:creator>
  <dc:description/>
  <dc:language>en-US</dc:language>
  <cp:lastModifiedBy>Michael</cp:lastModifiedBy>
  <dcterms:modified xsi:type="dcterms:W3CDTF">2004-08-18T10:49:19Z</dcterms:modified>
  <cp:revision>2</cp:revision>
  <dc:subject/>
  <dc:title>Slide 1</dc:title>
</cp:coreProperties>
</file>